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D528-B2C6-457B-BC73-404CC013F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2A7C-2574-4403-B16A-B769D46B5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2D0-AC9C-476E-A84C-C66F9D0A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9B3-843A-438E-833E-F187CC72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DE7-BC7B-4DF1-92E3-8E0129F3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781-5FFF-400A-A1D4-16B13439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B32-5D63-4716-8927-C68F27F8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06C-EC26-45A2-861A-21F098E0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873-EB7A-4BB1-BDA6-256C2AA5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6D9-B428-4BD4-B01C-8E6C6152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0E0-F874-47FE-AB4D-84DD978B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40C-331D-4CD1-A53B-27BF41B3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94D-AADF-4728-84BC-2DA8FD4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2A3-BD88-488F-BB29-7DCB5F6C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3059-67AE-4DF5-B4E7-2A2AACBE6C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 Narrow"/>
                <a:ea typeface="Arial"/>
              </a:rPr>
              <a:t>STANDING   WAVES   IN   THE  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 Narrow"/>
                <a:ea typeface="Arial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Arial Narrow"/>
                <a:ea typeface="Arial"/>
              </a:rPr>
              <a:t>COMPLETE   SYSTEM   OF  EQUATIONS  OF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 Narrow"/>
                <a:ea typeface="Arial"/>
              </a:rPr>
              <a:t>NAVIER – STOK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V.E. Zamysl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The Ural State University of Railway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Yekaterinburg,  Rus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The study was supported by RFBR, grant 11-01-00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символ конференции.bmp"/>
          <p:cNvPicPr/>
          <p:nvPr/>
        </p:nvPicPr>
        <p:blipFill>
          <a:blip r:embed="rId1"/>
          <a:stretch/>
        </p:blipFill>
        <p:spPr>
          <a:xfrm>
            <a:off x="719280" y="536400"/>
            <a:ext cx="52815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5,10c,davl.avi" descr=""/>
          <p:cNvPicPr/>
          <p:nvPr/>
        </p:nvPicPr>
        <p:blipFill>
          <a:blip r:embed="rId1"/>
          <a:stretch/>
        </p:blipFill>
        <p:spPr>
          <a:xfrm>
            <a:off x="264960" y="1855800"/>
            <a:ext cx="8615520" cy="3430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8715240" y="6488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80880" y="567576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Using  a term borrowed from music  the basic  tone  sounds at  frequency of 5 and  its overtones  sounds  at  frequency  that  are multiples  of 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642960" y="428760"/>
            <a:ext cx="7643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initial pressure is given by a harmonic with frequency of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5: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p0=1+0.1cos(5x),  u </a:t>
            </a:r>
            <a:r>
              <a:rPr b="0" lang="en-US" sz="2800" spc="-1" strike="noStrike">
                <a:solidFill>
                  <a:srgbClr val="00206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0,  </a:t>
            </a:r>
            <a:r>
              <a:rPr b="0" lang="en-US" sz="2800" spc="-1" strike="noStrike">
                <a:solidFill>
                  <a:srgbClr val="00206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Прямоугольник 7"/>
          <p:cNvGrpSpPr/>
          <p:nvPr/>
        </p:nvGrpSpPr>
        <p:grpSpPr>
          <a:xfrm>
            <a:off x="281160" y="5619600"/>
            <a:ext cx="8618400" cy="836640"/>
            <a:chOff x="281160" y="5619600"/>
            <a:chExt cx="8618400" cy="836640"/>
          </a:xfrm>
        </p:grpSpPr>
        <p:pic>
          <p:nvPicPr>
            <p:cNvPr id="10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81160" y="5619600"/>
              <a:ext cx="86184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03120" y="5643720"/>
              <a:ext cx="8572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3"/>
          <p:cNvSpPr/>
          <p:nvPr/>
        </p:nvSpPr>
        <p:spPr>
          <a:xfrm flipV="1">
            <a:off x="6000840" y="192888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87200" y="1785960"/>
            <a:ext cx="8786880" cy="357192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8"/>
          <p:cNvSpPr/>
          <p:nvPr/>
        </p:nvSpPr>
        <p:spPr>
          <a:xfrm>
            <a:off x="8670960" y="6472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42920" y="1428840"/>
            <a:ext cx="8869320" cy="464328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143000" y="5144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ynchronous oscillations between the fixed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898560" y="428760"/>
            <a:ext cx="7286760" cy="6429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7" descr="slide 11.bmp"/>
          <p:cNvPicPr/>
          <p:nvPr/>
        </p:nvPicPr>
        <p:blipFill>
          <a:blip r:embed="rId1"/>
          <a:stretch/>
        </p:blipFill>
        <p:spPr>
          <a:xfrm>
            <a:off x="190440" y="1488960"/>
            <a:ext cx="8763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e initial velocity is given by the sum of harmonics with frequencies of  8, 12, 20,      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d =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Скорость, 8,12,20, t=0"/>
          <p:cNvPicPr/>
          <p:nvPr/>
        </p:nvPicPr>
        <p:blipFill>
          <a:blip r:embed="rId1"/>
          <a:srcRect l="0" t="12005" r="0" b="23266"/>
          <a:stretch/>
        </p:blipFill>
        <p:spPr>
          <a:xfrm>
            <a:off x="0" y="1643040"/>
            <a:ext cx="908676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8715240" y="6488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643040" y="5610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Graph the velocity and its spectrum at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214200" y="357120"/>
            <a:ext cx="8715600" cy="607212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7"/>
          <p:cNvSpPr/>
          <p:nvPr/>
        </p:nvSpPr>
        <p:spPr>
          <a:xfrm>
            <a:off x="5572080" y="528624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Скорость, давление, 8,12,20, t=10"/>
          <p:cNvPicPr/>
          <p:nvPr/>
        </p:nvPicPr>
        <p:blipFill>
          <a:blip r:embed="rId1"/>
          <a:stretch/>
        </p:blipFill>
        <p:spPr>
          <a:xfrm>
            <a:off x="82440" y="255600"/>
            <a:ext cx="8952120" cy="62676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8715240" y="6488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357120" y="214200"/>
            <a:ext cx="8501040" cy="628668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643040" y="2929680"/>
            <a:ext cx="58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The graph  of  velocity  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u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(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x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)  and  its spectrum  at  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t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1571760" y="6059520"/>
            <a:ext cx="6072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The graph  of pressure  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)  and  its  spectrum  at  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0"/>
          <p:cNvSpPr/>
          <p:nvPr/>
        </p:nvSpPr>
        <p:spPr>
          <a:xfrm>
            <a:off x="5500800" y="2714760"/>
            <a:ext cx="285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2"/>
          <p:cNvSpPr/>
          <p:nvPr/>
        </p:nvSpPr>
        <p:spPr>
          <a:xfrm>
            <a:off x="5545080" y="590220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5"/>
          <p:cNvSpPr/>
          <p:nvPr/>
        </p:nvSpPr>
        <p:spPr>
          <a:xfrm>
            <a:off x="6643800" y="2714760"/>
            <a:ext cx="285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7"/>
          <p:cNvSpPr/>
          <p:nvPr/>
        </p:nvSpPr>
        <p:spPr>
          <a:xfrm>
            <a:off x="7786800" y="2714760"/>
            <a:ext cx="285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9"/>
          <p:cNvSpPr/>
          <p:nvPr/>
        </p:nvSpPr>
        <p:spPr>
          <a:xfrm>
            <a:off x="6756480" y="5911920"/>
            <a:ext cx="285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20"/>
          <p:cNvSpPr/>
          <p:nvPr/>
        </p:nvSpPr>
        <p:spPr>
          <a:xfrm>
            <a:off x="7500960" y="592920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21"/>
          <p:cNvSpPr/>
          <p:nvPr/>
        </p:nvSpPr>
        <p:spPr>
          <a:xfrm>
            <a:off x="7929720" y="5929200"/>
            <a:ext cx="2854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22"/>
          <p:cNvSpPr/>
          <p:nvPr/>
        </p:nvSpPr>
        <p:spPr>
          <a:xfrm>
            <a:off x="7412040" y="2714760"/>
            <a:ext cx="285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7388280" y="1033560"/>
            <a:ext cx="71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4"/>
          <p:cNvSpPr/>
          <p:nvPr/>
        </p:nvSpPr>
        <p:spPr>
          <a:xfrm>
            <a:off x="7429680" y="4160880"/>
            <a:ext cx="71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71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t the initial moment  p0=1+0.1cos(6x)+0.1cos(9x),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d = 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8715240" y="6500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714240" y="214200"/>
            <a:ext cx="7643880" cy="10065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9"/>
          <p:cNvSpPr/>
          <p:nvPr/>
        </p:nvSpPr>
        <p:spPr>
          <a:xfrm>
            <a:off x="357120" y="1428840"/>
            <a:ext cx="8358120" cy="52149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6-9,4c,шкала.avi" descr=""/>
          <p:cNvPicPr/>
          <p:nvPr/>
        </p:nvPicPr>
        <p:blipFill>
          <a:blip r:embed="rId1"/>
          <a:stretch/>
        </p:blipFill>
        <p:spPr>
          <a:xfrm>
            <a:off x="896760" y="1523880"/>
            <a:ext cx="73504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8715240" y="6488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2071800" y="1274760"/>
            <a:ext cx="5143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=1+0.1cos(3x)+0.1cos(5x) ,   u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571680" y="488880"/>
            <a:ext cx="8072280" cy="128592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357120" y="2286000"/>
            <a:ext cx="8501040" cy="3429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785960" y="600084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he decision contains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1714680" y="6000840"/>
            <a:ext cx="5786280" cy="5000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698400" y="569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he  initial  pressure  is  the  sum of  harmonics  with relatively  prime frequencies 3 and 5,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=1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,3,5,spektr10c.avi" descr=""/>
          <p:cNvPicPr/>
          <p:nvPr/>
        </p:nvPicPr>
        <p:blipFill>
          <a:blip r:embed="rId1"/>
          <a:stretch/>
        </p:blipFill>
        <p:spPr>
          <a:xfrm>
            <a:off x="681120" y="2428920"/>
            <a:ext cx="78915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Прямоугольник 5"/>
          <p:cNvGrpSpPr/>
          <p:nvPr/>
        </p:nvGrpSpPr>
        <p:grpSpPr>
          <a:xfrm>
            <a:off x="396720" y="512640"/>
            <a:ext cx="8571240" cy="5742000"/>
            <a:chOff x="396720" y="512640"/>
            <a:chExt cx="8571240" cy="5742000"/>
          </a:xfrm>
        </p:grpSpPr>
        <p:pic>
          <p:nvPicPr>
            <p:cNvPr id="14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96720" y="512640"/>
              <a:ext cx="8571240" cy="574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58640" y="571680"/>
              <a:ext cx="8399520" cy="55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4"/>
          <p:cNvSpPr/>
          <p:nvPr/>
        </p:nvSpPr>
        <p:spPr>
          <a:xfrm>
            <a:off x="8715240" y="6488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slide 16a.bmp"/>
          <p:cNvPicPr/>
          <p:nvPr/>
        </p:nvPicPr>
        <p:blipFill>
          <a:blip r:embed="rId2"/>
          <a:stretch/>
        </p:blipFill>
        <p:spPr>
          <a:xfrm>
            <a:off x="657360" y="684360"/>
            <a:ext cx="8057880" cy="51908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ая соединительная линия 7"/>
          <p:cNvSpPr/>
          <p:nvPr/>
        </p:nvSpPr>
        <p:spPr>
          <a:xfrm>
            <a:off x="2846520" y="4357800"/>
            <a:ext cx="17859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1"/>
          <p:cNvSpPr/>
          <p:nvPr/>
        </p:nvSpPr>
        <p:spPr>
          <a:xfrm>
            <a:off x="3613320" y="5786280"/>
            <a:ext cx="257148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7094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138320" y="207180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 your  attentio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Сетка и Галеркин К=100.avi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47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slide 2.bmp"/>
          <p:cNvPicPr/>
          <p:nvPr/>
        </p:nvPicPr>
        <p:blipFill>
          <a:blip r:embed="rId1"/>
          <a:stretch/>
        </p:blipFill>
        <p:spPr>
          <a:xfrm>
            <a:off x="49320" y="0"/>
            <a:ext cx="904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slide 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8" descr="slide 4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delta.bmp"/>
          <p:cNvPicPr/>
          <p:nvPr/>
        </p:nvPicPr>
        <p:blipFill>
          <a:blip r:embed="rId1"/>
          <a:stretch/>
        </p:blipFill>
        <p:spPr>
          <a:xfrm>
            <a:off x="714240" y="1428840"/>
            <a:ext cx="800100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uL.bmp"/>
          <p:cNvPicPr/>
          <p:nvPr/>
        </p:nvPicPr>
        <p:blipFill>
          <a:blip r:embed="rId2"/>
          <a:srcRect l="0" t="0" r="6264" b="14281"/>
          <a:stretch/>
        </p:blipFill>
        <p:spPr>
          <a:xfrm>
            <a:off x="857160" y="2643120"/>
            <a:ext cx="7478640" cy="3857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TextBox 5"/>
          <p:cNvGrpSpPr/>
          <p:nvPr/>
        </p:nvGrpSpPr>
        <p:grpSpPr>
          <a:xfrm>
            <a:off x="1066680" y="268200"/>
            <a:ext cx="7223400" cy="1212840"/>
            <a:chOff x="1066680" y="268200"/>
            <a:chExt cx="7223400" cy="1212840"/>
          </a:xfrm>
        </p:grpSpPr>
        <p:pic>
          <p:nvPicPr>
            <p:cNvPr id="58" name="TextBox 5" descr=""/>
            <p:cNvPicPr/>
            <p:nvPr/>
          </p:nvPicPr>
          <p:blipFill>
            <a:blip r:embed="rId3"/>
            <a:stretch/>
          </p:blipFill>
          <p:spPr>
            <a:xfrm>
              <a:off x="1066680" y="268200"/>
              <a:ext cx="7223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71720" y="272880"/>
              <a:ext cx="721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Arial"/>
                </a:rPr>
                <a:t>The equations for the coefficients of specif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Arial"/>
                </a:rPr>
                <a:t>volume  and  spe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6"/>
          <p:cNvSpPr/>
          <p:nvPr/>
        </p:nvSpPr>
        <p:spPr>
          <a:xfrm>
            <a:off x="285840" y="1357200"/>
            <a:ext cx="8643960" cy="5214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1143000" y="214200"/>
            <a:ext cx="70009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P0.bmp"/>
          <p:cNvPicPr/>
          <p:nvPr/>
        </p:nvPicPr>
        <p:blipFill>
          <a:blip r:embed="rId1"/>
          <a:stretch/>
        </p:blipFill>
        <p:spPr>
          <a:xfrm>
            <a:off x="595440" y="1019160"/>
            <a:ext cx="8072280" cy="119556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PL.bmp"/>
          <p:cNvPicPr/>
          <p:nvPr/>
        </p:nvPicPr>
        <p:blipFill>
          <a:blip r:embed="rId2"/>
          <a:srcRect l="2653" t="1244" r="1769" b="3190"/>
          <a:stretch/>
        </p:blipFill>
        <p:spPr>
          <a:xfrm>
            <a:off x="714240" y="2286000"/>
            <a:ext cx="7715520" cy="4286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387360" y="1000080"/>
            <a:ext cx="8429760" cy="5643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1285920" y="28584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e equations for the pressure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"/>
          <p:cNvSpPr/>
          <p:nvPr/>
        </p:nvSpPr>
        <p:spPr>
          <a:xfrm>
            <a:off x="1500120" y="285840"/>
            <a:ext cx="64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1357200" y="214200"/>
            <a:ext cx="6572520" cy="642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9"/>
          <p:cNvSpPr/>
          <p:nvPr/>
        </p:nvSpPr>
        <p:spPr>
          <a:xfrm>
            <a:off x="3071880" y="3143160"/>
            <a:ext cx="3419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9" descr="slajd7a.bmp"/>
          <p:cNvPicPr/>
          <p:nvPr/>
        </p:nvPicPr>
        <p:blipFill>
          <a:blip r:embed="rId1"/>
          <a:stretch/>
        </p:blipFill>
        <p:spPr>
          <a:xfrm>
            <a:off x="1719360" y="3564000"/>
            <a:ext cx="5705280" cy="600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a,b"/>
          <p:cNvPicPr/>
          <p:nvPr/>
        </p:nvPicPr>
        <p:blipFill>
          <a:blip r:embed="rId2"/>
          <a:stretch/>
        </p:blipFill>
        <p:spPr>
          <a:xfrm>
            <a:off x="285840" y="1214280"/>
            <a:ext cx="8572320" cy="5143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85840" y="1214280"/>
            <a:ext cx="8501040" cy="5286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>
            <a:off x="571680" y="2427120"/>
            <a:ext cx="57132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1"/>
          <p:cNvSpPr/>
          <p:nvPr/>
        </p:nvSpPr>
        <p:spPr>
          <a:xfrm>
            <a:off x="571680" y="2428920"/>
            <a:ext cx="571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2"/>
          <p:cNvSpPr/>
          <p:nvPr/>
        </p:nvSpPr>
        <p:spPr>
          <a:xfrm>
            <a:off x="541440" y="4545000"/>
            <a:ext cx="571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3" descr="slajd7a.bmp"/>
          <p:cNvPicPr/>
          <p:nvPr/>
        </p:nvPicPr>
        <p:blipFill>
          <a:blip r:embed="rId3"/>
          <a:stretch/>
        </p:blipFill>
        <p:spPr>
          <a:xfrm>
            <a:off x="1428840" y="441360"/>
            <a:ext cx="6357960" cy="558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4"/>
          <p:cNvSpPr/>
          <p:nvPr/>
        </p:nvSpPr>
        <p:spPr>
          <a:xfrm>
            <a:off x="1200240" y="357120"/>
            <a:ext cx="6786360" cy="642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7"/>
          <p:cNvSpPr/>
          <p:nvPr/>
        </p:nvSpPr>
        <p:spPr>
          <a:xfrm>
            <a:off x="5616720" y="2744640"/>
            <a:ext cx="642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8"/>
          <p:cNvSpPr/>
          <p:nvPr/>
        </p:nvSpPr>
        <p:spPr>
          <a:xfrm>
            <a:off x="3081240" y="3151080"/>
            <a:ext cx="34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0"/>
          <p:cNvSpPr/>
          <p:nvPr/>
        </p:nvSpPr>
        <p:spPr>
          <a:xfrm>
            <a:off x="4657680" y="5581800"/>
            <a:ext cx="34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6"/>
          <p:cNvSpPr/>
          <p:nvPr/>
        </p:nvSpPr>
        <p:spPr>
          <a:xfrm>
            <a:off x="3071880" y="2741760"/>
            <a:ext cx="9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2"/>
          <p:cNvSpPr/>
          <p:nvPr/>
        </p:nvSpPr>
        <p:spPr>
          <a:xfrm>
            <a:off x="4714920" y="5143680"/>
            <a:ext cx="1000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1"/>
          <p:cNvSpPr/>
          <p:nvPr/>
        </p:nvSpPr>
        <p:spPr>
          <a:xfrm>
            <a:off x="4635360" y="4741920"/>
            <a:ext cx="9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9720" y="274680"/>
            <a:ext cx="73580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orem   for  SODE  for   finite  value   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571760" y="324000"/>
            <a:ext cx="6143400" cy="495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4"/>
          <p:cNvSpPr/>
          <p:nvPr/>
        </p:nvSpPr>
        <p:spPr>
          <a:xfrm>
            <a:off x="231840" y="1000080"/>
            <a:ext cx="8715240" cy="55008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8827920" y="6488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slide 8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8786880" y="6488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2500200" y="173160"/>
            <a:ext cx="43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e  conclusions of 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428920" y="173160"/>
            <a:ext cx="4214880" cy="428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"/>
          <p:cNvSpPr/>
          <p:nvPr/>
        </p:nvSpPr>
        <p:spPr>
          <a:xfrm>
            <a:off x="401760" y="785880"/>
            <a:ext cx="8429400" cy="5715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slide 9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7:31:03Z</dcterms:created>
  <dc:creator>Владимир</dc:creator>
  <dc:description/>
  <dc:language>en-US</dc:language>
  <cp:lastModifiedBy>Владимир</cp:lastModifiedBy>
  <dcterms:modified xsi:type="dcterms:W3CDTF">2012-06-01T19:02:24Z</dcterms:modified>
  <cp:revision>213</cp:revision>
  <dc:subject/>
  <dc:title>Слайд 1</dc:title>
</cp:coreProperties>
</file>