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1.wmf" ContentType="image/x-wmf"/>
  <Override PartName="/ppt/media/image40.wmf" ContentType="image/x-wmf"/>
  <Override PartName="/ppt/media/image18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35.png" ContentType="image/png"/>
  <Override PartName="/ppt/media/image32.png" ContentType="image/png"/>
  <Override PartName="/ppt/media/image31.wmf" ContentType="image/x-wmf"/>
  <Override PartName="/ppt/media/image9.wmf" ContentType="image/x-wmf"/>
  <Override PartName="/ppt/media/image29.wmf" ContentType="image/x-wmf"/>
  <Override PartName="/ppt/media/image53.png" ContentType="image/png"/>
  <Override PartName="/ppt/media/image14.wmf" ContentType="image/x-wmf"/>
  <Override PartName="/ppt/media/image68.png" ContentType="image/png"/>
  <Override PartName="/ppt/media/image25.wmf" ContentType="image/x-wmf"/>
  <Override PartName="/ppt/media/image64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wmf" ContentType="image/x-wmf"/>
  <Override PartName="/ppt/media/image59.wmf" ContentType="image/x-wmf"/>
  <Override PartName="/ppt/media/image58.wmf" ContentType="image/x-wmf"/>
  <Override PartName="/ppt/media/image60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24.wmf" ContentType="image/x-wmf"/>
  <Override PartName="/ppt/media/image63.png" ContentType="image/png"/>
  <Override PartName="/ppt/media/image26.wmf" ContentType="image/x-wmf"/>
  <Override PartName="/ppt/media/image80.png" ContentType="image/png"/>
  <Override PartName="/ppt/media/image75.wmf" ContentType="image/x-wmf"/>
  <Override PartName="/ppt/media/image74.wmf" ContentType="image/x-wmf"/>
  <Override PartName="/ppt/media/image73.png" ContentType="image/png"/>
  <Override PartName="/ppt/media/image72.wmf" ContentType="image/x-wmf"/>
  <Override PartName="/ppt/media/image71.png" ContentType="image/png"/>
  <Override PartName="/ppt/media/image69.wmf" ContentType="image/x-wmf"/>
  <Override PartName="/ppt/media/image70.png" ContentType="image/png"/>
  <Override PartName="/ppt/media/image67.wmf" ContentType="image/x-wmf"/>
  <Override PartName="/ppt/media/image65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34.wmf" ContentType="image/x-wmf"/>
  <Override PartName="/ppt/media/image77.png" ContentType="image/png"/>
  <Override PartName="/ppt/media/image8.wmf" ContentType="image/x-wmf"/>
  <Override PartName="/ppt/media/image38.wmf" ContentType="image/x-wmf"/>
  <Override PartName="/ppt/media/image28.wmf" ContentType="image/x-wmf"/>
  <Override PartName="/ppt/media/image30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17.wmf" ContentType="image/x-wmf"/>
  <Override PartName="/ppt/media/image5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36.wmf" ContentType="image/x-wmf"/>
  <Override PartName="/ppt/media/image79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A84C9A-23A2-4B9D-B1C9-E7DAC176FE7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44352A-C756-443D-B8AD-539C05EC6CF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C412E3-E5A1-4E5C-AD53-512EF5057F1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29E45E-7A67-45AB-B36D-70830686183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0AA83C-FF28-464E-8708-5297384B458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5124CC-42DF-4433-80A9-9E055F42DE2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81F-77CB-4B85-B75C-0332E61F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F65-D12C-4292-8DB3-848877BB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AC5-00CB-4C23-A364-5CF80C3F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793-B29C-4B5C-AF90-1674A12D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EA7-1239-475C-A283-3822DBE8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6A5-9ABE-4106-8411-FBF6DF3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6CA-1E10-400E-8BF6-B20DAF70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D08-B718-4E2B-8054-4D17E41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E8E-BBB2-4CC1-8995-2F744CE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DF6-DD1E-49CD-8BD6-167E710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525-5F52-46E6-AF6D-39567C4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7EB-EA62-4029-9977-9133719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608-55AB-4599-AC35-CED46DF70A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png"/><Relationship Id="rId11" Type="http://schemas.openxmlformats.org/officeDocument/2006/relationships/image" Target="../media/image31.wmf"/><Relationship Id="rId12" Type="http://schemas.openxmlformats.org/officeDocument/2006/relationships/image" Target="../media/image32.png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png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7.wmf"/><Relationship Id="rId5" Type="http://schemas.openxmlformats.org/officeDocument/2006/relationships/image" Target="../media/image56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28600" y="609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Fluid modeling of anisotropic heating and micro-instabiliti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 space plasma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4560" y="2057400"/>
            <a:ext cx="678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erry Pass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, CNRS, Observatoire de la Côte d’Azur, Nic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L. Sulem, P. Hunana, D. Laveder and L. Marr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675520" y="558324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SCT2012, Novosibirsk, June 4-8, 2012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ogotype_Colour-on-white-background_300-DPI_TIF"/>
          <p:cNvPicPr/>
          <p:nvPr/>
        </p:nvPicPr>
        <p:blipFill>
          <a:blip r:embed="rId1"/>
          <a:stretch/>
        </p:blipFill>
        <p:spPr>
          <a:xfrm>
            <a:off x="7149960" y="6037200"/>
            <a:ext cx="181476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185840" y="6237360"/>
            <a:ext cx="590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search supported in part by the European Commission's 7th Framework Program (PF7:2007-2013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nder grant agreement SHOCK (project # 284515) and Programme Terre-Soleil of INSU-CN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7800" y="990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Arial"/>
              </a:rPr>
              <a:t>(1)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1361520"/>
            <a:ext cx="828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rite fluid moments from the linear low-frequency kinetic the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They depend on electromagnetic field components and involve the </a:t>
            </a:r>
            <a:r>
              <a:rPr b="0" i="1" lang="en-GB" sz="1600" spc="-1" strike="noStrike">
                <a:solidFill>
                  <a:srgbClr val="009999"/>
                </a:solidFill>
                <a:latin typeface="Arial"/>
              </a:rPr>
              <a:t>plasma dispersion function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, which is </a:t>
            </a:r>
            <a:r>
              <a:rPr b="0" i="1" lang="en-GB" sz="1600" spc="-1" strike="noStrike">
                <a:solidFill>
                  <a:srgbClr val="cc0099"/>
                </a:solidFill>
                <a:latin typeface="Arial"/>
              </a:rPr>
              <a:t>nonlocal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both </a:t>
            </a:r>
            <a:r>
              <a:rPr b="0" i="1" lang="en-GB" sz="1600" spc="-1" strike="noStrike">
                <a:solidFill>
                  <a:srgbClr val="cc0099"/>
                </a:solidFill>
                <a:latin typeface="Arial"/>
              </a:rPr>
              <a:t>in space and </a:t>
            </a:r>
            <a:r>
              <a:rPr b="1" i="1" lang="en-GB" sz="1600" spc="-1" strike="noStrike">
                <a:solidFill>
                  <a:srgbClr val="cc0099"/>
                </a:solidFill>
                <a:latin typeface="Arial"/>
              </a:rPr>
              <a:t>time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ff"/>
                </a:solidFill>
                <a:latin typeface="Arial"/>
              </a:rPr>
              <a:t>The expressions for the 4th order moments can be expressed in terms of other fluid moment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 such a way as</a:t>
            </a:r>
            <a:r>
              <a:rPr b="0" i="1" lang="en-GB" sz="1600" spc="-1" strike="noStrike">
                <a:solidFill>
                  <a:srgbClr val="3333ff"/>
                </a:solidFill>
                <a:latin typeface="Arial"/>
              </a:rPr>
              <a:t> to minimize the occurrence of the plasma dispersion function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latter is otherwise replaced by</a:t>
            </a:r>
            <a:r>
              <a:rPr b="0" i="1" lang="en-GB" sz="1600" spc="-1" strike="noStrike">
                <a:solidFill>
                  <a:srgbClr val="cc0099"/>
                </a:solidFill>
                <a:latin typeface="Arial"/>
              </a:rPr>
              <a:t> suitable Padé approximants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us leading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c0099"/>
                </a:solidFill>
                <a:latin typeface="Arial"/>
              </a:rPr>
              <a:t>local-in-time expressions.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t some places, a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Hilbert transform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with respect to the longitudinal space coordinate appears, that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modelizes Landau damping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5" descr=""/>
          <p:cNvPicPr/>
          <p:nvPr/>
        </p:nvPicPr>
        <p:blipFill>
          <a:blip r:embed="rId1"/>
          <a:stretch/>
        </p:blipFill>
        <p:spPr>
          <a:xfrm>
            <a:off x="2590920" y="5562720"/>
            <a:ext cx="5105160" cy="61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1"/>
          <p:cNvSpPr/>
          <p:nvPr/>
        </p:nvSpPr>
        <p:spPr>
          <a:xfrm>
            <a:off x="596160" y="56754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3733920" y="5410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2136240" y="49528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ilbert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9"/>
          <p:cNvSpPr/>
          <p:nvPr/>
        </p:nvSpPr>
        <p:spPr>
          <a:xfrm>
            <a:off x="1600200" y="15238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lve the (coupled) algebraic equations that result from the proj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 the tensorial equations orthogonally to the gyrotropic « directions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5715000" cy="1258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"/>
          <p:cNvSpPr/>
          <p:nvPr/>
        </p:nvSpPr>
        <p:spPr>
          <a:xfrm>
            <a:off x="210960" y="2438280"/>
            <a:ext cx="42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example, at the level of the pressure, we hav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2320560" y="3048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123480" y="3657600"/>
            <a:ext cx="70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solvability conditions lead to the dynamical equations for pressures and heat flu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152280" y="1523880"/>
            <a:ext cx="1371600" cy="533520"/>
          </a:xfrm>
          <a:prstGeom prst="rightArrow">
            <a:avLst>
              <a:gd name="adj1" fmla="val 50000"/>
              <a:gd name="adj2" fmla="val 64271"/>
            </a:avLst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rst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84120" y="3049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Arial"/>
              </a:rPr>
              <a:t>(2) FL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32200" y="83808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wo methods are poss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6320" y="4114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 explicit solution requires an </a:t>
            </a: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expansion in a small paramet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the temporal and spatial </a:t>
            </a: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scale separation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6320" y="4648320"/>
            <a:ext cx="883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is method has the great advantage of being </a:t>
            </a: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fully nonlinea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; its </a:t>
            </a: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algebraic complexity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however precludes an easy numerical implementation. This is even more cumbersome at the level of the heat flux which enters this form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5640" y="5549760"/>
            <a:ext cx="905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second order solu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coupled equations for the heat flux vectors S and the tensor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s explicited in a </a:t>
            </a: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linea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tting in Goswami et al. PoP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102109 (2005) and Passot, Sulem &amp; Hunana, PoP, submit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orresponding model reproduces the </a:t>
            </a: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linear growth rate of the mirror instability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including the restabiliz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 small scales (the thresholdis easily captured by large-scale Landau fluids without FLR corre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1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302360" cy="319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4397400" cy="3143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58040" y="76320"/>
            <a:ext cx="7948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 order terms are required to capture the dispersion relation of K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d magnetosonic wave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see also Mikhailovskii and Smolyakov, JETP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109 (1985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80880" y="4800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KAW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0.01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atan(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(1st order: ◊  and 2nd order: 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us theory (o), giv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5791320" y="5562720"/>
            <a:ext cx="2230200" cy="455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4"/>
          <a:stretch/>
        </p:blipFill>
        <p:spPr>
          <a:xfrm>
            <a:off x="5943600" y="5943600"/>
            <a:ext cx="1701720" cy="34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5"/>
          <a:stretch/>
        </p:blipFill>
        <p:spPr>
          <a:xfrm>
            <a:off x="5943600" y="6248520"/>
            <a:ext cx="1981080" cy="565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5791320" y="4724280"/>
            <a:ext cx="320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gnetosonic waves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3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del (1st order: ◊  and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rder: 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us theory (o), giv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"/>
          <p:cNvPicPr/>
          <p:nvPr/>
        </p:nvPicPr>
        <p:blipFill>
          <a:blip r:embed="rId6"/>
          <a:stretch/>
        </p:blipFill>
        <p:spPr>
          <a:xfrm>
            <a:off x="1143000" y="6242040"/>
            <a:ext cx="1298520" cy="38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7"/>
          <a:stretch/>
        </p:blipFill>
        <p:spPr>
          <a:xfrm>
            <a:off x="3200400" y="6248520"/>
            <a:ext cx="99072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7"/>
          <p:cNvSpPr/>
          <p:nvPr/>
        </p:nvSpPr>
        <p:spPr>
          <a:xfrm>
            <a:off x="2515320" y="62485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1"/>
              <p:cNvSpPr txBox="1"/>
              <p:nvPr/>
            </p:nvSpPr>
            <p:spPr>
              <a:xfrm>
                <a:off x="85680" y="5562720"/>
                <a:ext cx="31831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Text Box 22"/>
          <p:cNvSpPr/>
          <p:nvPr/>
        </p:nvSpPr>
        <p:spPr>
          <a:xfrm>
            <a:off x="59760" y="6248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id w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H="1" flipV="1">
            <a:off x="8152920" y="1676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8080560" y="1981080"/>
            <a:ext cx="82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7243560" y="33526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V="1">
            <a:off x="7924680" y="3048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2212920" y="1600200"/>
            <a:ext cx="82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3048120" y="1905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3205080" y="36576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 flipH="1" flipV="1">
            <a:off x="3352320" y="29714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302000" cy="3192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92640" y="99072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large-scale model, nevertheless leads to spurious instability for  K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n temperature anisotropy is too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343400" y="26668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KAW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516760" y="3657600"/>
            <a:ext cx="88776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400" spc="-1" strike="noStrike" baseline="-12000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.4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400" spc="-1" strike="noStrike" baseline="-12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2286000" y="380880"/>
            <a:ext cx="67816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other possiblity to determine FLR contributions is to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66"/>
                </a:solidFill>
                <a:latin typeface="Arial"/>
              </a:rPr>
              <a:t>linear kinetic theory in the low-frequency limit (in a wa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66"/>
                </a:solidFill>
                <a:latin typeface="Arial"/>
              </a:rPr>
              <a:t>to what is done for the closure of the hierarchy)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3581280" y="1560600"/>
            <a:ext cx="2828880" cy="51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348000" y="2322360"/>
            <a:ext cx="1855800" cy="449280"/>
          </a:xfrm>
          <a:prstGeom prst="rect">
            <a:avLst/>
          </a:prstGeom>
          <a:ln w="0">
            <a:noFill/>
          </a:ln>
        </p:spPr>
      </p:pic>
      <p:sp>
        <p:nvSpPr>
          <p:cNvPr id="151" name="Line 8"/>
          <p:cNvSpPr/>
          <p:nvPr/>
        </p:nvSpPr>
        <p:spPr>
          <a:xfrm>
            <a:off x="3419640" y="527832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059280" y="4987800"/>
            <a:ext cx="576000" cy="579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5310360" y="5135400"/>
                <a:ext cx="644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3348000" y="2903400"/>
                <a:ext cx="485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/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AutoShape 12"/>
          <p:cNvSpPr/>
          <p:nvPr/>
        </p:nvSpPr>
        <p:spPr>
          <a:xfrm>
            <a:off x="2916360" y="3262320"/>
            <a:ext cx="863640" cy="201600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3"/>
              <p:cNvSpPr txBox="1"/>
              <p:nvPr/>
            </p:nvSpPr>
            <p:spPr>
              <a:xfrm>
                <a:off x="3564000" y="5280120"/>
                <a:ext cx="261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14"/>
          <p:cNvSpPr/>
          <p:nvPr/>
        </p:nvSpPr>
        <p:spPr>
          <a:xfrm>
            <a:off x="3124440" y="391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5"/>
              <p:cNvSpPr txBox="1"/>
              <p:nvPr/>
            </p:nvSpPr>
            <p:spPr>
              <a:xfrm>
                <a:off x="5715000" y="2779560"/>
                <a:ext cx="268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Text Box 16"/>
          <p:cNvSpPr/>
          <p:nvPr/>
        </p:nvSpPr>
        <p:spPr>
          <a:xfrm>
            <a:off x="5943600" y="2779560"/>
            <a:ext cx="22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Larmor rad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3348000" y="29750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3348000" y="41274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76320" y="533520"/>
            <a:ext cx="2057400" cy="533160"/>
          </a:xfrm>
          <a:prstGeom prst="rightArrow">
            <a:avLst>
              <a:gd name="adj1" fmla="val 50000"/>
              <a:gd name="adj2" fmla="val 96472"/>
            </a:avLst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cond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04920" y="1332000"/>
            <a:ext cx="799308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this case, the expansion is valid for: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si-transvers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ydrodynamic scale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80880" y="5636880"/>
            <a:ext cx="828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need of  an arbitrary truncation: all linearized fluid equations are satisfied when plugging the fluid moments directly calculated from the LF kinetic theory, except the perpendicular velocity equation: it reduces to the </a:t>
            </a:r>
            <a:r>
              <a:rPr b="0" lang="en-GB" sz="1600" spc="-1" strike="noStrike">
                <a:solidFill>
                  <a:srgbClr val="ff3300"/>
                </a:solidFill>
                <a:latin typeface="Arial"/>
              </a:rPr>
              <a:t>perpendicular pressure balance condi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s in gyrokine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08000" y="763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Mirror modes growth rat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arison of FLR-Landau fluid with kinetic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09480" y="765000"/>
            <a:ext cx="2590920" cy="2391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4800600" cy="255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09480" y="3068640"/>
            <a:ext cx="2667240" cy="26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685800" y="3343320"/>
            <a:ext cx="1295280" cy="230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5"/>
          <a:stretch/>
        </p:blipFill>
        <p:spPr>
          <a:xfrm>
            <a:off x="1981080" y="3289320"/>
            <a:ext cx="1447920" cy="210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6"/>
          <a:stretch/>
        </p:blipFill>
        <p:spPr>
          <a:xfrm>
            <a:off x="5003640" y="3633840"/>
            <a:ext cx="2743200" cy="245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7"/>
          <a:stretch/>
        </p:blipFill>
        <p:spPr>
          <a:xfrm>
            <a:off x="5029200" y="820800"/>
            <a:ext cx="2590920" cy="232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8"/>
          <a:stretch/>
        </p:blipFill>
        <p:spPr>
          <a:xfrm>
            <a:off x="533520" y="3645000"/>
            <a:ext cx="2678040" cy="233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9"/>
          <a:stretch/>
        </p:blipFill>
        <p:spPr>
          <a:xfrm>
            <a:off x="5105520" y="3124080"/>
            <a:ext cx="236196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10"/>
          <a:stretch/>
        </p:blipFill>
        <p:spPr>
          <a:xfrm>
            <a:off x="2987640" y="6459480"/>
            <a:ext cx="3048120" cy="28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11"/>
          <a:stretch/>
        </p:blipFill>
        <p:spPr>
          <a:xfrm>
            <a:off x="533520" y="6021360"/>
            <a:ext cx="1149120" cy="247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12"/>
          <a:stretch/>
        </p:blipFill>
        <p:spPr>
          <a:xfrm>
            <a:off x="1676520" y="5999040"/>
            <a:ext cx="1981080" cy="238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13"/>
          <a:stretch/>
        </p:blipFill>
        <p:spPr>
          <a:xfrm>
            <a:off x="5292720" y="6021360"/>
            <a:ext cx="2133720" cy="2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14"/>
          <a:stretch/>
        </p:blipFill>
        <p:spPr>
          <a:xfrm>
            <a:off x="7467480" y="6021360"/>
            <a:ext cx="1371600" cy="277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7"/>
          <p:cNvSpPr/>
          <p:nvPr/>
        </p:nvSpPr>
        <p:spPr>
          <a:xfrm>
            <a:off x="3718080" y="1611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8" descr=""/>
          <p:cNvPicPr/>
          <p:nvPr/>
        </p:nvPicPr>
        <p:blipFill>
          <a:blip r:embed="rId15"/>
          <a:stretch/>
        </p:blipFill>
        <p:spPr>
          <a:xfrm>
            <a:off x="3429000" y="1289160"/>
            <a:ext cx="1284120" cy="393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16"/>
          <a:stretch/>
        </p:blipFill>
        <p:spPr>
          <a:xfrm>
            <a:off x="5105520" y="3352680"/>
            <a:ext cx="2514600" cy="222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2679840" y="1382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588000" y="33192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AMP c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52280" y="189000"/>
            <a:ext cx="69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equency and damping rate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of Alfvén waves: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228600" y="6029280"/>
            <a:ext cx="3657600" cy="676440"/>
          </a:xfrm>
          <a:prstGeom prst="rect">
            <a:avLst/>
          </a:prstGeom>
          <a:ln w="0">
            <a:noFill/>
          </a:ln>
        </p:spPr>
      </p:pic>
      <p:sp>
        <p:nvSpPr>
          <p:cNvPr id="187" name="Line 4"/>
          <p:cNvSpPr/>
          <p:nvPr/>
        </p:nvSpPr>
        <p:spPr>
          <a:xfrm>
            <a:off x="4648320" y="1219320"/>
            <a:ext cx="0" cy="54864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149400" y="1297080"/>
            <a:ext cx="3736800" cy="472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838440" cy="273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4"/>
          <a:stretch/>
        </p:blipFill>
        <p:spPr>
          <a:xfrm>
            <a:off x="3592440" y="3414600"/>
            <a:ext cx="750960" cy="319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5"/>
          <a:stretch/>
        </p:blipFill>
        <p:spPr>
          <a:xfrm>
            <a:off x="3567240" y="4952880"/>
            <a:ext cx="776160" cy="254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8904600" y="1447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848120" y="2598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339160" y="836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blique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6"/>
          <a:stretch/>
        </p:blipFill>
        <p:spPr>
          <a:xfrm>
            <a:off x="5016600" y="1635120"/>
            <a:ext cx="4114800" cy="399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7"/>
          <a:stretch/>
        </p:blipFill>
        <p:spPr>
          <a:xfrm>
            <a:off x="6516720" y="1258920"/>
            <a:ext cx="1219320" cy="22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8"/>
          <a:stretch/>
        </p:blipFill>
        <p:spPr>
          <a:xfrm>
            <a:off x="6769080" y="3532320"/>
            <a:ext cx="762120" cy="27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9"/>
          <a:stretch/>
        </p:blipFill>
        <p:spPr>
          <a:xfrm>
            <a:off x="4863960" y="5661000"/>
            <a:ext cx="4114800" cy="642960"/>
          </a:xfrm>
          <a:prstGeom prst="rect">
            <a:avLst/>
          </a:prstGeom>
          <a:ln w="0">
            <a:noFill/>
          </a:ln>
        </p:spPr>
      </p:pic>
      <p:sp>
        <p:nvSpPr>
          <p:cNvPr id="199" name="Line 16"/>
          <p:cNvSpPr/>
          <p:nvPr/>
        </p:nvSpPr>
        <p:spPr>
          <a:xfrm>
            <a:off x="8028000" y="979560"/>
            <a:ext cx="376200" cy="1657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7524000" y="392040"/>
            <a:ext cx="15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00"/>
                </a:solidFill>
                <a:latin typeface="Arial"/>
              </a:rPr>
              <a:t>Does not 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00"/>
                </a:solidFill>
                <a:latin typeface="Arial"/>
              </a:rPr>
              <a:t>reso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473400" y="7588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quasi-transverse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19080" y="98100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(Kinetic Alfvén wa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767520" y="12826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2338200" y="12826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damp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5664960" y="14986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7665840" y="14842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damp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210348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5659560" y="12207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≈84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1981800" y="6477120"/>
            <a:ext cx="8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89.9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7" descr=""/>
          <p:cNvPicPr/>
          <p:nvPr/>
        </p:nvPicPr>
        <p:blipFill>
          <a:blip r:embed="rId10"/>
          <a:stretch/>
        </p:blipFill>
        <p:spPr>
          <a:xfrm>
            <a:off x="1908000" y="5805360"/>
            <a:ext cx="401760" cy="236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"/>
          <p:cNvPicPr/>
          <p:nvPr/>
        </p:nvPicPr>
        <p:blipFill>
          <a:blip r:embed="rId11"/>
          <a:stretch/>
        </p:blipFill>
        <p:spPr>
          <a:xfrm>
            <a:off x="6804000" y="5516640"/>
            <a:ext cx="4017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1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735280" cy="1990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744640" y="15228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Kinetic Alfvén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6240" y="632448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large-scale model is correct u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4267080" y="6400800"/>
                <a:ext cx="6858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/>
                    </m:sSub>
                    <m:r>
                      <m:t xml:space="preserve">ρ</m:t>
                    </m:r>
                    <m:r>
                      <m:t xml:space="preserve">≃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9"/>
          <p:cNvSpPr/>
          <p:nvPr/>
        </p:nvSpPr>
        <p:spPr>
          <a:xfrm>
            <a:off x="3810240" y="12193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KAW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968280" y="2133720"/>
            <a:ext cx="801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400" spc="-1" strike="noStrike" baseline="-12000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fr-FR" sz="1400" spc="-1" strike="noStrike" baseline="-12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743200" cy="1992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3"/>
          <a:stretch/>
        </p:blipFill>
        <p:spPr>
          <a:xfrm>
            <a:off x="6121440" y="304920"/>
            <a:ext cx="2743200" cy="193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4"/>
          <a:stretch/>
        </p:blipFill>
        <p:spPr>
          <a:xfrm>
            <a:off x="6129360" y="2332080"/>
            <a:ext cx="2746440" cy="1942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"/>
          <p:cNvPicPr/>
          <p:nvPr/>
        </p:nvPicPr>
        <p:blipFill>
          <a:blip r:embed="rId5"/>
          <a:stretch/>
        </p:blipFill>
        <p:spPr>
          <a:xfrm>
            <a:off x="6197760" y="4267080"/>
            <a:ext cx="2717640" cy="19227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6"/>
          <p:cNvSpPr/>
          <p:nvPr/>
        </p:nvSpPr>
        <p:spPr>
          <a:xfrm>
            <a:off x="7161480" y="6324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igen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989280" y="563868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res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065240" y="29718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mping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1676520" y="685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149760" y="5554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rge-sca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265572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2655720" cy="1992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34640" y="380880"/>
            <a:ext cx="4315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arger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angles close to 90 degre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frequency can exceed the ion Larmor frequen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ithout encountering resonance and th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ains val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1582560" y="6070680"/>
            <a:ext cx="45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0 (</a:t>
            </a: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3 (</a:t>
            </a:r>
            <a:r>
              <a:rPr b="0" lang="fr-FR" sz="1400" spc="-1" strike="noStrike">
                <a:solidFill>
                  <a:srgbClr val="99cc00"/>
                </a:solidFill>
                <a:latin typeface="Arial"/>
              </a:rPr>
              <a:t>gree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6 (</a:t>
            </a: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9 (</a:t>
            </a:r>
            <a:r>
              <a:rPr b="0" lang="fr-FR" sz="1400" spc="-1" strike="noStrike">
                <a:solidFill>
                  <a:srgbClr val="ff33cc"/>
                </a:solidFill>
                <a:latin typeface="Arial"/>
              </a:rPr>
              <a:t>magent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063800" y="22860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al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064880" y="45720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mping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55880" y="1752480"/>
            <a:ext cx="877464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ree dimensional simulations of decaying turbul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role of ion Landau 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431160" y="2109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40000" y="1295280"/>
            <a:ext cx="821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rbulence in space plasmas: main properties and ope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ui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rge-sca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LR-Landau fluid model based on gyrokinetic linear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turbulent ca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3D decaying simulations: role of ion Landau 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1D driven simulations at quasi-perpendicular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eating of ions and electrons as a function of injection scale and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e case of perpendicular ion heating: constraining effec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irror in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762120" y="304920"/>
            <a:ext cx="7580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D FLR-Landau fluid simulations in a turbulent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plified model)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unana et al., (2011) ApJ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43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78160" y="1371600"/>
            <a:ext cx="75826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reely decaying turbu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(temperatures remain close to their initial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thermal electrons; Initially, no temperature anisotropy; equal ion and electron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pressible initi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67640" y="25909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-spectral code; resolution: 12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small scale filte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78360" y="333684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ompressibilit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3740040" cy="2674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743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380360" y="2103480"/>
            <a:ext cx="425520" cy="245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451640" y="2276640"/>
            <a:ext cx="401760" cy="27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3"/>
          <a:stretch/>
        </p:blipFill>
        <p:spPr>
          <a:xfrm>
            <a:off x="7410600" y="2619360"/>
            <a:ext cx="40140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7451640" y="4881600"/>
            <a:ext cx="401760" cy="27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5"/>
          <a:stretch/>
        </p:blipFill>
        <p:spPr>
          <a:xfrm>
            <a:off x="7380360" y="4653000"/>
            <a:ext cx="425520" cy="2458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990360" y="45072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pectral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5076720" y="404640"/>
            <a:ext cx="9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076720" y="765000"/>
            <a:ext cx="935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086160" y="21276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ll-MH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6013800" y="57168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FLR-Landau flu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707840" y="952560"/>
            <a:ext cx="59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verse directions                          Parallel direction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33640" y="160020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123840" y="4576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5" descr=""/>
          <p:cNvPicPr/>
          <p:nvPr/>
        </p:nvPicPr>
        <p:blipFill>
          <a:blip r:embed="rId6"/>
          <a:stretch/>
        </p:blipFill>
        <p:spPr>
          <a:xfrm>
            <a:off x="7451640" y="5157720"/>
            <a:ext cx="401760" cy="233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6"/>
          <p:cNvSpPr/>
          <p:nvPr/>
        </p:nvSpPr>
        <p:spPr>
          <a:xfrm>
            <a:off x="4726800" y="6280200"/>
            <a:ext cx="39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trong reduction of the parallel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"/>
          <p:cNvPicPr/>
          <p:nvPr/>
        </p:nvPicPr>
        <p:blipFill>
          <a:blip r:embed="rId7"/>
          <a:stretch/>
        </p:blipFill>
        <p:spPr>
          <a:xfrm>
            <a:off x="1146240" y="3902040"/>
            <a:ext cx="6234120" cy="2406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8"/>
          <a:stretch/>
        </p:blipFill>
        <p:spPr>
          <a:xfrm>
            <a:off x="1116000" y="1268280"/>
            <a:ext cx="621036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456840" y="1447920"/>
            <a:ext cx="8541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imulations of the growth of 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nisotropy and its limitation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icro-inst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73680" y="20304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Statistical study of temperature anisotr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89880" y="762120"/>
            <a:ext cx="78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rbulence (and/or solar wind expansion) generate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emperature aniso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anisotropy is limited by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mirror and oblique fireho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st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952880" cy="33606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563000" y="5410080"/>
            <a:ext cx="293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ale et al. PRL 103, 21101 (200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479480" y="6019920"/>
            <a:ext cx="453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lor: magnitude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; enhance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also corresp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enhanced proton he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774000" y="6507000"/>
            <a:ext cx="28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ellinger et al. GRL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3, L09101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152280" y="1682640"/>
            <a:ext cx="3970440" cy="4611960"/>
          </a:xfrm>
          <a:prstGeom prst="rect">
            <a:avLst/>
          </a:prstGeom>
          <a:ln w="0">
            <a:noFill/>
          </a:ln>
        </p:spPr>
      </p:pic>
      <p:sp>
        <p:nvSpPr>
          <p:cNvPr id="265" name="Line 9"/>
          <p:cNvSpPr/>
          <p:nvPr/>
        </p:nvSpPr>
        <p:spPr>
          <a:xfrm flipH="1">
            <a:off x="3430440" y="1898640"/>
            <a:ext cx="144720" cy="151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450360" y="493560"/>
            <a:ext cx="76395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</a:rPr>
              <a:t>Parameters of the 1D simul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gle of propagation: 80</a:t>
            </a:r>
            <a:r>
              <a:rPr b="0" lang="fr-FR" sz="1600" spc="-1" strike="noStrike" baseline="28000">
                <a:solidFill>
                  <a:srgbClr val="000000"/>
                </a:solidFill>
                <a:latin typeface="Arial"/>
              </a:rPr>
              <a:t>o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with respect to the ambient 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te noise in time random driving around k</a:t>
            </a:r>
            <a:r>
              <a:rPr b="0" lang="fr-FR" sz="1600" spc="-1" strike="noStrike" baseline="-20000">
                <a:solidFill>
                  <a:srgbClr val="000000"/>
                </a:solidFill>
                <a:latin typeface="Arial"/>
              </a:rPr>
              <a:t>inj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applied on the perpendic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locity component (u</a:t>
            </a:r>
            <a:r>
              <a:rPr b="0" lang="fr-FR" sz="1600" spc="-1" strike="noStrike" baseline="-10000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each time the sum of kinetic and magnetic energy fal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low a given threshold: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t is intended to simulate the injection of energy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nd of the solar wind Alfvén wave casc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ulting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root mean square of the transverse magneti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field fluctu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order of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0.12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times th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magnitude o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the ambient fiel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realistic for the solar wi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otropic initial temperatures; various parallel prot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ze of the domain L measured in units of ion inerti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umber of grid points: typically N=256 (after partial desaliaz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artificial dissipation is ad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5311800" cy="3722760"/>
          </a:xfrm>
          <a:prstGeom prst="rect">
            <a:avLst/>
          </a:prstGeom>
          <a:ln w="0">
            <a:noFill/>
          </a:ln>
        </p:spPr>
      </p:pic>
      <p:sp>
        <p:nvSpPr>
          <p:cNvPr id="268" name="Line 3"/>
          <p:cNvSpPr/>
          <p:nvPr/>
        </p:nvSpPr>
        <p:spPr>
          <a:xfrm>
            <a:off x="611280" y="2205000"/>
            <a:ext cx="165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29680" y="1844640"/>
            <a:ext cx="443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800" spc="-1" strike="noStrike" baseline="-26000">
                <a:solidFill>
                  <a:srgbClr val="000000"/>
                </a:solidFill>
                <a:latin typeface="Arial"/>
              </a:rPr>
              <a:t>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 flipV="1">
            <a:off x="684360" y="4005000"/>
            <a:ext cx="160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61000" y="4430880"/>
            <a:ext cx="42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11680" y="304920"/>
            <a:ext cx="815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Fixing k</a:t>
            </a:r>
            <a:r>
              <a:rPr b="0" lang="fr-FR" sz="1800" spc="-1" strike="noStrike" baseline="-20000">
                <a:solidFill>
                  <a:srgbClr val="0033cc"/>
                </a:solidFill>
                <a:latin typeface="Arial"/>
              </a:rPr>
              <a:t>inj</a:t>
            </a: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/k</a:t>
            </a:r>
            <a:r>
              <a:rPr b="0" lang="el-GR" sz="1800" spc="-1" strike="noStrike" baseline="-25000">
                <a:solidFill>
                  <a:srgbClr val="0033cc"/>
                </a:solidFill>
                <a:latin typeface="Arial"/>
              </a:rPr>
              <a:t>ρ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087 </a:t>
            </a: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(relatively small scale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varying </a:t>
            </a: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thus changing the domain siz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656040" y="3645000"/>
            <a:ext cx="24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6, L=1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cc00"/>
                </a:solidFill>
                <a:latin typeface="Arial"/>
              </a:rPr>
              <a:t>Gre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1.2, L=16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2.4, L=2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cc"/>
                </a:solidFill>
                <a:latin typeface="Arial"/>
              </a:rPr>
              <a:t>Pink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9.6, L=144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158160" y="9079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229440" y="2133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cc33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33cc33"/>
                </a:solidFill>
                <a:latin typeface="Arial"/>
              </a:rPr>
              <a:t>=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183360" y="2637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=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6229440" y="2997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ff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ff00ff"/>
                </a:solidFill>
                <a:latin typeface="Arial"/>
              </a:rPr>
              <a:t>=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88200" y="5397480"/>
            <a:ext cx="5575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erpendicular heating  and parallel cooling of ions,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larger efficiency as </a:t>
            </a:r>
            <a:r>
              <a:rPr b="0" lang="el-GR" sz="1600" spc="-1" strike="noStrike">
                <a:solidFill>
                  <a:srgbClr val="0033cc"/>
                </a:solidFill>
                <a:latin typeface="Arial"/>
              </a:rPr>
              <a:t>β</a:t>
            </a: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 is reduced</a:t>
            </a: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agreement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mulations of action of prescribed KAW 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handran et al. ApJ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5809680" y="5354640"/>
            <a:ext cx="3161520" cy="1310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With injection at larger scal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critical value of </a:t>
            </a:r>
            <a:r>
              <a:rPr b="0" lang="el-GR" sz="1600" spc="-1" strike="noStrike">
                <a:solidFill>
                  <a:srgbClr val="cc3300"/>
                </a:solidFill>
                <a:latin typeface="Arial"/>
              </a:rPr>
              <a:t>β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below which parallel ion heatin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above which perpendic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heating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m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01040" y="488952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variation of the (space averaged) ion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 flipV="1">
            <a:off x="684360" y="3357720"/>
            <a:ext cx="1584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 flipV="1">
            <a:off x="684360" y="3500280"/>
            <a:ext cx="1800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684360" y="3789000"/>
            <a:ext cx="1726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611280" y="220500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11280" y="2205000"/>
            <a:ext cx="180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611280" y="220500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684360" y="2205000"/>
            <a:ext cx="11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59040" y="6259680"/>
            <a:ext cx="50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gain in internal energy remains nevertheless compa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899320" cy="43578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971360" y="628488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llel electron temperature (same cond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678348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707520" y="41148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6707520" y="48769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70520" y="3429000"/>
            <a:ext cx="46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78360" y="533520"/>
            <a:ext cx="50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parallel electron heat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 smal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5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4168800" cy="1397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4343400" cy="2606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152280" y="3581280"/>
            <a:ext cx="4343400" cy="2772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156960" y="4572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llel 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57320" y="64008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pendicular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440080" y="457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4140360" y="2743200"/>
            <a:ext cx="1574640" cy="1909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716440" y="259092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FLR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4284360" y="2286000"/>
            <a:ext cx="1353960" cy="17352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567040" y="205740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tal temperature var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643280" y="228600"/>
            <a:ext cx="4321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igin of heating/coo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Domination of FLR contribu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more important close to mirror 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 flipH="1">
            <a:off x="4267080" y="2286000"/>
            <a:ext cx="1354320" cy="6382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 flipH="1" flipV="1">
            <a:off x="4355640" y="2565360"/>
            <a:ext cx="1359000" cy="1778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5794200" y="35053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gnetic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7543800" y="3962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ll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 flipH="1">
            <a:off x="6705720" y="4267080"/>
            <a:ext cx="761760" cy="424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4874040" y="556272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nongyrotr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eat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0"/>
          <p:cNvSpPr/>
          <p:nvPr/>
        </p:nvSpPr>
        <p:spPr>
          <a:xfrm flipV="1">
            <a:off x="5486400" y="5435640"/>
            <a:ext cx="216000" cy="2030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7696080" y="4343400"/>
            <a:ext cx="12956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nongyrotrop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2"/>
          <p:cNvSpPr/>
          <p:nvPr/>
        </p:nvSpPr>
        <p:spPr>
          <a:xfrm flipH="1">
            <a:off x="7695720" y="4876920"/>
            <a:ext cx="304920" cy="2840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5"/>
          <p:cNvSpPr/>
          <p:nvPr/>
        </p:nvSpPr>
        <p:spPr>
          <a:xfrm rot="16200000">
            <a:off x="7482600" y="4282200"/>
            <a:ext cx="350640" cy="2361960"/>
          </a:xfrm>
          <a:custGeom>
            <a:avLst/>
            <a:gdLst>
              <a:gd name="textAreaLeft" fmla="*/ 223920 w 350640"/>
              <a:gd name="textAreaRight" fmla="*/ 351000 w 350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6548400" y="57150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dominant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2871000" y="6400800"/>
            <a:ext cx="592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parallel and perpendicular heat fluxes contribute to the variation of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4" descr=""/>
          <p:cNvPicPr/>
          <p:nvPr/>
        </p:nvPicPr>
        <p:blipFill>
          <a:blip r:embed="rId4"/>
          <a:stretch/>
        </p:blipFill>
        <p:spPr>
          <a:xfrm>
            <a:off x="8667720" y="6324480"/>
            <a:ext cx="4762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10760" y="333360"/>
            <a:ext cx="408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</a:rPr>
              <a:t>Evolution of the mean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7040" y="1017720"/>
            <a:ext cx="369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artly 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ating of perpendicular proto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 cooling of parallel proto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ociated with low frequency mo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ork of FLR forces is importa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435640" y="1689120"/>
            <a:ext cx="3594240" cy="43322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6024600" y="19162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61120" y="4724280"/>
            <a:ext cx="1409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ressi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arp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 the onse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rror in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5724360" y="5300640"/>
            <a:ext cx="503280" cy="7308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4220640" y="344160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rro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5364000" y="3645000"/>
            <a:ext cx="1008360" cy="21564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08000" y="222408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hen mirror modes are linearly damped, dynamics governed by quasi-linear theory  (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hapiro and Shevchenko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1964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when prescribing a bi-Maxwellian ion distribution func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ads to growth of perpendicular io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crease of parallel io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468360" y="3352680"/>
            <a:ext cx="2952720" cy="1069920"/>
            <a:chOff x="468360" y="3352680"/>
            <a:chExt cx="2952720" cy="1069920"/>
          </a:xfrm>
        </p:grpSpPr>
        <p:sp>
          <p:nvSpPr>
            <p:cNvPr id="330" name="AutoShape 12"/>
            <p:cNvSpPr/>
            <p:nvPr/>
          </p:nvSpPr>
          <p:spPr>
            <a:xfrm>
              <a:off x="468360" y="3352680"/>
              <a:ext cx="2946960" cy="10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13" descr=""/>
            <p:cNvPicPr/>
            <p:nvPr/>
          </p:nvPicPr>
          <p:blipFill>
            <a:blip r:embed="rId2"/>
            <a:stretch/>
          </p:blipFill>
          <p:spPr>
            <a:xfrm>
              <a:off x="468360" y="3352680"/>
              <a:ext cx="2952720" cy="10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 Box 14"/>
          <p:cNvSpPr/>
          <p:nvPr/>
        </p:nvSpPr>
        <p:spPr>
          <a:xfrm>
            <a:off x="5804640" y="1065240"/>
            <a:ext cx="2587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rowth of ion temperatures:  T</a:t>
            </a:r>
            <a:r>
              <a:rPr b="0" lang="fr-FR" sz="1200" spc="-1" strike="noStrike" baseline="24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gt;T</a:t>
            </a:r>
            <a:r>
              <a:rPr b="0" lang="fr-FR" sz="1200" spc="-1" strike="noStrike" baseline="24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re moderate growth of 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mperatures:T</a:t>
            </a:r>
            <a:r>
              <a:rPr b="0" lang="fr-FR" sz="1200" spc="-1" strike="noStrike" baseline="24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T</a:t>
            </a:r>
            <a:r>
              <a:rPr b="0" lang="fr-FR" sz="1200" spc="-1" strike="noStrike" baseline="24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movie1.mpg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925040" cy="49532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309240" y="38088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elopment of the mirror in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400" y="914400"/>
            <a:ext cx="5418000" cy="56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plasmas ar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agnet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≈ 1, M</a:t>
            </a:r>
            <a:r>
              <a:rPr b="0" lang="en-U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≈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ctuations: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power-law spect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on gyroscales 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persive and kinetic effects cannot be ign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coherent structures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filaments, shocklets, magnetosonic solitons, magn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oles)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ith typical scales of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a few ion Larmor rad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the debated ques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pectral energy distribution and its anisotr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issip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Heating of the plas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mperature anisotr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Particl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791320" y="40384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s 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a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even in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 turbu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19480" y="2286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pace plasmas: Main features and debat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agnetosphere"/>
          <p:cNvPicPr/>
          <p:nvPr/>
        </p:nvPicPr>
        <p:blipFill>
          <a:blip r:embed="rId1"/>
          <a:stretch/>
        </p:blipFill>
        <p:spPr>
          <a:xfrm>
            <a:off x="5410080" y="1012680"/>
            <a:ext cx="35816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529920" y="471600"/>
            <a:ext cx="82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e temperature anisotropy is constrained by the mirror in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510840" y="1000080"/>
            <a:ext cx="84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o mirror thres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tellini and Schwartz, JG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539 (1995); Pokhotelov et al. JG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393 (2000), Hellinger PoP 14, 082105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794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446360" y="5799240"/>
            <a:ext cx="404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lue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keeping constant  k</a:t>
            </a:r>
            <a:r>
              <a:rPr b="0" lang="fr-FR" sz="1800" spc="-1" strike="noStrike" baseline="-18000">
                <a:solidFill>
                  <a:srgbClr val="000000"/>
                </a:solidFill>
                <a:latin typeface="Arial"/>
              </a:rPr>
              <a:t>in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fr-FR" sz="1800" spc="-1" strike="noStrike" baseline="-20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gamma_3beta"/>
          <p:cNvPicPr/>
          <p:nvPr/>
        </p:nvPicPr>
        <p:blipFill>
          <a:blip r:embed="rId1"/>
          <a:stretch/>
        </p:blipFill>
        <p:spPr>
          <a:xfrm>
            <a:off x="4284720" y="2781360"/>
            <a:ext cx="3886200" cy="2828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4948200" y="34941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5207040" y="37893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7020000" y="285264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 flipH="1">
            <a:off x="6372360" y="3068640"/>
            <a:ext cx="7207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302520" y="4437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 flipH="1" flipV="1">
            <a:off x="5796000" y="4428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113040" y="3141720"/>
            <a:ext cx="431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More magnetosonic waves at small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leading to a greater distance to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and more oscil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4" descr=""/>
          <p:cNvPicPr/>
          <p:nvPr/>
        </p:nvPicPr>
        <p:blipFill>
          <a:blip r:embed="rId2"/>
          <a:stretch/>
        </p:blipFill>
        <p:spPr>
          <a:xfrm>
            <a:off x="2009880" y="1689120"/>
            <a:ext cx="51544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5373720" y="2441520"/>
            <a:ext cx="3465360" cy="3292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"/>
          <p:cNvPicPr/>
          <p:nvPr/>
        </p:nvPicPr>
        <p:blipFill>
          <a:blip r:embed="rId2"/>
          <a:stretch/>
        </p:blipFill>
        <p:spPr>
          <a:xfrm>
            <a:off x="0" y="76320"/>
            <a:ext cx="4322880" cy="361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177840" y="3397320"/>
            <a:ext cx="4178160" cy="3308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3880080" y="26668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cc"/>
                </a:solidFill>
                <a:latin typeface="Arial"/>
              </a:rPr>
              <a:t>Equal parall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cc"/>
                </a:solidFill>
                <a:latin typeface="Arial"/>
              </a:rPr>
              <a:t>perpendic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cc"/>
                </a:solidFill>
                <a:latin typeface="Arial"/>
              </a:rPr>
              <a:t>electron temperat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72320" y="64468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Closer distance to thres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49400" y="15228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fluence of weak coll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 flipH="1" flipV="1">
            <a:off x="3347640" y="2565000"/>
            <a:ext cx="614520" cy="406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299120" y="5734080"/>
            <a:ext cx="463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With collisions, points lie below the thresho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urve but follow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4341600" y="6381720"/>
            <a:ext cx="150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fr-FR" sz="1800" spc="-1" strike="noStrike" baseline="-18000">
                <a:solidFill>
                  <a:srgbClr val="000000"/>
                </a:solidFill>
                <a:latin typeface="Arial"/>
              </a:rPr>
              <a:t>e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6.25x10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4293000" y="189000"/>
            <a:ext cx="453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K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hatnagar,Gross, Krook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s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cluded in the Vlasov eq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ing to linear and nonlinear addi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ons in the moment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Green, PoF 197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"/>
          <p:cNvPicPr/>
          <p:nvPr/>
        </p:nvPicPr>
        <p:blipFill>
          <a:blip r:embed="rId4"/>
          <a:stretch/>
        </p:blipFill>
        <p:spPr>
          <a:xfrm>
            <a:off x="6006960" y="1630440"/>
            <a:ext cx="2849760" cy="371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5"/>
          <a:stretch/>
        </p:blipFill>
        <p:spPr>
          <a:xfrm>
            <a:off x="5791320" y="1924200"/>
            <a:ext cx="3281400" cy="438120"/>
          </a:xfrm>
          <a:prstGeom prst="rect">
            <a:avLst/>
          </a:prstGeom>
          <a:ln w="0">
            <a:noFill/>
          </a:ln>
        </p:spPr>
      </p:pic>
      <p:sp>
        <p:nvSpPr>
          <p:cNvPr id="360" name="Line 14"/>
          <p:cNvSpPr/>
          <p:nvPr/>
        </p:nvSpPr>
        <p:spPr>
          <a:xfrm flipH="1">
            <a:off x="6400440" y="2362320"/>
            <a:ext cx="762120" cy="1143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127920" cy="4006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482040" y="836640"/>
            <a:ext cx="63082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cing on b</a:t>
            </a:r>
            <a:r>
              <a:rPr b="0" lang="fr-FR" sz="1800" spc="-1" strike="noStrike" baseline="-18000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6, k</a:t>
            </a:r>
            <a:r>
              <a:rPr b="0" lang="fr-FR" sz="1800" spc="-1" strike="noStrike" baseline="-18000">
                <a:solidFill>
                  <a:srgbClr val="000000"/>
                </a:solidFill>
                <a:latin typeface="Arial"/>
              </a:rPr>
              <a:t>in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l-GR" sz="1800" spc="-1" strike="noStrike" baseline="-18000">
                <a:solidFill>
                  <a:srgbClr val="000000"/>
                </a:solidFill>
                <a:latin typeface="Arial"/>
              </a:rPr>
              <a:t>ρ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0.062, smaller energy thresh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31960" y="169920"/>
            <a:ext cx="79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llel ion heating and formation of Alfvenic soli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618200" y="2774880"/>
            <a:ext cx="42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5191920" y="3782880"/>
            <a:ext cx="443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800" spc="-1" strike="noStrike" baseline="-26000">
                <a:solidFill>
                  <a:srgbClr val="000000"/>
                </a:solidFill>
                <a:latin typeface="Arial"/>
              </a:rPr>
              <a:t>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5162040" y="4508640"/>
            <a:ext cx="488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 baseline="-26000">
                <a:solidFill>
                  <a:srgbClr val="000000"/>
                </a:solidFill>
                <a:latin typeface="Arial"/>
              </a:rPr>
              <a:t>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651760" y="3200400"/>
            <a:ext cx="46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 baseline="26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963800" y="57531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ique fire-hose instabil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1285920" y="31896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fvénic soliton (oblique fire-hose ins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movie_soliton.mpg" descr=""/>
          <p:cNvPicPr/>
          <p:nvPr/>
        </p:nvPicPr>
        <p:blipFill>
          <a:blip r:embed="rId1"/>
          <a:stretch/>
        </p:blipFill>
        <p:spPr>
          <a:xfrm>
            <a:off x="303120" y="914400"/>
            <a:ext cx="8688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126600" y="30492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ummary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12480" y="1197000"/>
            <a:ext cx="8503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LR Landau fluids suitable for plasma dynamics at the ion gyro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re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odynamic nonlinea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inear approximation of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ow-frequency kinet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ndau damping &amp; FLR corr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onsistent with the quasi-transverse character of the turbulent casc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uitable for simulations of the solar w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au damping: depletes compressible effects and inhibits longitudi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a correct description of the mirror ins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R corrections: arrest of mirror instability at small sc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A sufficiently accurate description of the FLR is needed to prevent small-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purious inst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049920" y="152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Summar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32200" y="861840"/>
            <a:ext cx="8076240" cy="47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FLR-Landau fluid model allows for a self-consistent study of heating du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lfvén wave turbul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8000"/>
                </a:solidFill>
                <a:latin typeface="Arial"/>
              </a:rPr>
              <a:t>(Simulations are possible without addition of artificial dissipation, at least in 1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</a:rPr>
              <a:t>Main resul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erpendicular ion heatin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s possible 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in nonresonant situ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with KAW driv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turbulence typical scales are close enough to the ion gyroradi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generates a self-regulated state wher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mirror instability constrains the grow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f the temperature anisotrop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constant injection scale, 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heating efficiency increases as </a:t>
            </a:r>
            <a:r>
              <a:rPr b="0" lang="el-GR" sz="16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th injection at larger scales, heating can preferentially affect ion parallel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s well as the electron parallel temperature) at small values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A diagram of the plasma state in (</a:t>
            </a:r>
            <a:r>
              <a:rPr b="0" lang="el-GR" sz="1600" spc="-1" strike="noStrike">
                <a:solidFill>
                  <a:srgbClr val="cc0066"/>
                </a:solidFill>
                <a:latin typeface="Arial"/>
              </a:rPr>
              <a:t>β</a:t>
            </a:r>
            <a:r>
              <a:rPr b="0" lang="fr-FR" sz="1600" spc="-1" strike="noStrike" baseline="-20000">
                <a:solidFill>
                  <a:srgbClr val="cc0066"/>
                </a:solidFill>
                <a:latin typeface="Arial"/>
              </a:rPr>
              <a:t>//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, T</a:t>
            </a:r>
            <a:r>
              <a:rPr b="0" lang="fr-FR" sz="1600" spc="-1" strike="noStrike" baseline="-30000">
                <a:solidFill>
                  <a:srgbClr val="cc0066"/>
                </a:solidFill>
                <a:latin typeface="Arial"/>
              </a:rPr>
              <a:t>┴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/T</a:t>
            </a:r>
            <a:r>
              <a:rPr b="0" lang="fr-FR" sz="1600" spc="-1" strike="noStrike" baseline="-20000">
                <a:solidFill>
                  <a:srgbClr val="cc0066"/>
                </a:solidFill>
                <a:latin typeface="Arial"/>
              </a:rPr>
              <a:t>//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) plane, similar to the one observed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slow solar wind, is obtaine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especially in the presence of a </a:t>
            </a: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 weak level of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33cc"/>
                </a:solidFill>
                <a:latin typeface="Arial"/>
              </a:rPr>
              <a:t>that helps to constrain the plasma close the mirror instability thres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97080" y="6019920"/>
            <a:ext cx="48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</a:rPr>
              <a:t>Forthcoming developments: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3D sim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191120" cy="3919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056600" y="487692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ahraoui et al. PRL 102, 231102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449680" y="4835520"/>
            <a:ext cx="3630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Several power-law ran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Which waves? Which slop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portant to estimate the he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g et al. JGR 115, A02101, 201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At what scales does dissipation take pla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By what mechanis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0040" y="18900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Main features of solar wind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523880" y="2362320"/>
            <a:ext cx="1035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66ff"/>
                </a:solidFill>
                <a:latin typeface="Arial"/>
              </a:rPr>
              <a:t>proton gyro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917800" y="1224000"/>
            <a:ext cx="98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perpendicu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magne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2666520" y="1447920"/>
            <a:ext cx="30492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512720" y="1660680"/>
            <a:ext cx="77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765440" y="14839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288160" y="137160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~K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209680" y="29718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66ff"/>
                </a:solidFill>
                <a:latin typeface="Arial"/>
              </a:rPr>
              <a:t>electron gyro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12040" y="5486400"/>
            <a:ext cx="464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cess of perpendicular magnetic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k-filtering -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wave vectors are hghly oblique rela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o the ambient field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86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026040" y="1252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Spectral anisotr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3089160" cy="3756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2"/>
          <p:cNvSpPr/>
          <p:nvPr/>
        </p:nvSpPr>
        <p:spPr>
          <a:xfrm>
            <a:off x="5859360" y="4267080"/>
            <a:ext cx="30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Quasi-transverse 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No power law in the parallel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3768480" cy="1800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280480" y="6299280"/>
            <a:ext cx="369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lexandrova et al. JGR 111, A12208 (200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36880" y="3645000"/>
            <a:ext cx="4399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d of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 coherent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- Current filaments and Alfvén vor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- Mirror structures (magnetic holes and hum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44000" y="12708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Main features of terrestrial magnetosheath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52280" y="65412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ehind bow shock: </a:t>
            </a:r>
            <a:r>
              <a:rPr b="0" lang="fr-FR" sz="1800" spc="-1" strike="noStrike">
                <a:solidFill>
                  <a:srgbClr val="3333ff"/>
                </a:solidFill>
                <a:latin typeface="Arial"/>
              </a:rPr>
              <a:t>ion temperature anisotropy: leads to micro-inst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IC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ear quasi-perpendicular shock)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 and mirror instabiliti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further inside magnetoshe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715000" y="1341360"/>
            <a:ext cx="3384720" cy="2416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31840" y="16002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ence of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mirror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7238880" y="4572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44160" y="425124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lfvén vor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79280" y="2060640"/>
            <a:ext cx="5042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- Have essentially zero frequency in the plasma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dentified using k-filtering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inçon &amp; Lefeuvre,  JGR 96, 1789, 199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785560" y="3716280"/>
            <a:ext cx="32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hraoui et al., PRL 96, 075002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67080" y="22860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to model collisionless plasm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9000" y="928800"/>
            <a:ext cx="8486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wind is only very weakly colli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lasov-Maxwell simulatio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rdly possible on the present day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ree space dimensions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6 variables + time,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oad range of time scal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2300400"/>
            <a:ext cx="883944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Gyrokinetic theory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Howes, ApJ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651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, 2006,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chekochihin et al., ApJ Supp.,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182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, 310, 2009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concentrates on the quasi-transverse dynamics and averages out the fast w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pplicability to space plasmas still to be valida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Gyrokinetic simulatio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G. Howes, PoP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, 055904 , 2008, </a:t>
            </a:r>
            <a:r>
              <a:rPr b="0" i="1" lang="nb-NO" sz="1400" spc="-1" strike="noStrike">
                <a:solidFill>
                  <a:srgbClr val="000000"/>
                </a:solidFill>
                <a:latin typeface="Arial"/>
              </a:rPr>
              <a:t>P.R.L. </a:t>
            </a:r>
            <a:r>
              <a:rPr b="1" i="1" lang="nb-NO" sz="1400" spc="-1" strike="noStrike">
                <a:solidFill>
                  <a:srgbClr val="000000"/>
                </a:solidFill>
                <a:latin typeface="Arial"/>
              </a:rPr>
              <a:t>107</a:t>
            </a:r>
            <a:r>
              <a:rPr b="0" i="1" lang="nb-NO" sz="1400" spc="-1" strike="noStrike">
                <a:solidFill>
                  <a:srgbClr val="000000"/>
                </a:solidFill>
                <a:latin typeface="Arial"/>
              </a:rPr>
              <a:t>, 035004 (2011)</a:t>
            </a:r>
            <a:r>
              <a:rPr b="0" i="1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re now feasibl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how the presence of 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cascades both in the physical and velocity spaces in the range  k</a:t>
            </a:r>
            <a:r>
              <a:rPr b="0" lang="fr-FR" sz="1600" spc="-1" strike="noStrike" baseline="-20000">
                <a:solidFill>
                  <a:srgbClr val="009999"/>
                </a:solidFill>
                <a:latin typeface="Arial"/>
              </a:rPr>
              <a:t>┴</a:t>
            </a:r>
            <a:r>
              <a:rPr b="0" lang="el-GR" sz="1600" spc="-1" strike="noStrike">
                <a:solidFill>
                  <a:srgbClr val="009999"/>
                </a:solidFill>
                <a:latin typeface="Arial"/>
              </a:rPr>
              <a:t>ρ≥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yrokinetic  simulations remain challenging numerically and difficult to interpr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e needs </a:t>
            </a: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fluid mode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3333ff"/>
                </a:solidFill>
                <a:latin typeface="Arial"/>
              </a:rPr>
              <a:t>retains low-frequency kinetic effects: Landau damping and FLR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can be integrated relatively fa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allows for strong temperature anisotrop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ff"/>
                </a:solidFill>
                <a:latin typeface="Arial"/>
              </a:rPr>
              <a:t>does not a priori order out the fast magnetosonic w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6720" y="1193760"/>
            <a:ext cx="849636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mmett &amp; Perk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3019, 199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a closure retaining lin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au dam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for large-scale MH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nyder, Hammett &amp; Dorland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P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3974, 199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from the drift kinetic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o dispersive MHD with Hall effect and large scale FLR cor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assot &amp; Sulem, PoP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3906, 2003; Goswami, Passot &amp; Sulem, PoP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102109,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nclusion of quasi-transverse scales extending beyond the ion gyroscale, under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gyrokinetic scal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ssot &amp; Sulem, PoP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082502,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LR-Landau flui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1120" y="4446720"/>
            <a:ext cx="88506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R-Landau fluids are based on a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ull description of the hydrodynamic nonlinearitie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emented by a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linear description of low-frequency kinetic effects </a:t>
            </a: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(Landau damping and FLR correc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</a:rPr>
              <a:t>In contrast with gyrofluids (obtained by avering gyrokinetics over velocity space),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Landau fluids retain fast waves that are accurately described up to the ion gyrosc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4920" y="54936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luid description retaining low-frequency kinetic effects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ndau flui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276720" y="152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andau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66120" y="658800"/>
            <a:ext cx="79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sake of simplicity: neglect electron inertia, use quasi-neutra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dynamics: derived by computing velocity moments from Vlasov Maxwell eq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689880" y="16765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7800" y="1811160"/>
            <a:ext cx="31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compose the ion pressure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80880" y="2141640"/>
            <a:ext cx="6324840" cy="347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705720" y="21337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B / |B|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04920" y="3124080"/>
            <a:ext cx="783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lectron pressure tensor is taken gyrotrop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sidered scales &gt;&gt; electron Larmor radi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2362320" y="2437920"/>
            <a:ext cx="0" cy="30492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520280" y="27432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FLR cor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158400" y="4038480"/>
            <a:ext cx="863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exac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quations for th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gyrotropic pressur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that include heating/cooling due to the 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 the non-gyrotropic pressure forc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8760" y="5029200"/>
            <a:ext cx="8486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implificatio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re introduced at the level of th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heat flu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qu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se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mos PoP 12, 052102 (2005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r the full set of nonlinear equ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rms that involve the non-gyrotropic pressure and heat fluxes are kept only w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y appear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linear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>
            <a:off x="609480" y="5638680"/>
            <a:ext cx="381240" cy="304920"/>
          </a:xfrm>
          <a:prstGeom prst="rightArrow">
            <a:avLst>
              <a:gd name="adj1" fmla="val 10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52280" y="18288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28600" y="2286000"/>
            <a:ext cx="878508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he completion of this type of fluid model requires the determination o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(1) closure relations to express the 4th-rank cumu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losure at lower or higher order also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(2) (non gyrotropic) FLR corrections to the various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095880" y="2895480"/>
            <a:ext cx="145116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ssot</cp:lastModifiedBy>
  <dcterms:modified xsi:type="dcterms:W3CDTF">2012-06-04T14:47:17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