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4.png" ContentType="image/png"/>
  <Override PartName="/ppt/media/image5.png" ContentType="image/png"/>
  <Override PartName="/ppt/media/image24.jpeg" ContentType="image/jpeg"/>
  <Override PartName="/ppt/media/image30.jpeg" ContentType="image/jpeg"/>
  <Override PartName="/ppt/media/image7.wmf" ContentType="image/x-wmf"/>
  <Override PartName="/ppt/media/image8.png" ContentType="image/png"/>
  <Override PartName="/ppt/media/image13.png" ContentType="image/png"/>
  <Override PartName="/ppt/media/image3.png" ContentType="image/png"/>
  <Override PartName="/ppt/media/image25.jpeg" ContentType="image/jpeg"/>
  <Override PartName="/ppt/media/image10.wmf" ContentType="image/x-wmf"/>
  <Override PartName="/ppt/media/image12.png" ContentType="image/png"/>
  <Override PartName="/ppt/media/image23.jpeg" ContentType="image/jpeg"/>
  <Override PartName="/ppt/media/image6.wmf" ContentType="image/x-wmf"/>
  <Override PartName="/ppt/media/image11.png" ContentType="image/png"/>
  <Override PartName="/ppt/media/image1.wmf" ContentType="image/x-wmf"/>
  <Override PartName="/ppt/media/image14.png" ContentType="image/png"/>
  <Override PartName="/ppt/media/image15.wmf" ContentType="image/x-wmf"/>
  <Override PartName="/ppt/media/image22.jpeg" ContentType="image/jpeg"/>
  <Override PartName="/ppt/media/image9.png" ContentType="image/png"/>
  <Override PartName="/ppt/media/image16.png" ContentType="image/png"/>
  <Override PartName="/ppt/media/image2.jpeg" ContentType="image/jpeg"/>
  <Override PartName="/ppt/media/image18.wmf" ContentType="image/x-wmf"/>
  <Override PartName="/ppt/media/image26.jpeg" ContentType="image/jpeg"/>
  <Override PartName="/ppt/media/image20.wmf" ContentType="image/x-wmf"/>
  <Override PartName="/ppt/media/image17.png" ContentType="image/png"/>
  <Override PartName="/ppt/media/image19.wmf" ContentType="image/x-wmf"/>
  <Override PartName="/ppt/media/image21.png" ContentType="image/png"/>
  <Override PartName="/ppt/media/image27.wmf" ContentType="image/x-wmf"/>
  <Override PartName="/ppt/media/image2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6FBF-CE3C-422A-A60C-BCA3EFF2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9E3-9F2E-474F-82A2-EE531C12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D54-742E-4E96-8FD3-CC42C919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334D-2E56-4A50-89F4-48A35658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33DA-AE2C-4D95-A567-9969C16C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396C-2249-4E3C-9E9D-23573A8C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3B45-4183-4554-A221-0A47E436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BE54-0DCD-4A57-AEA3-66110B5C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F9AE-489E-447D-89C2-E4DA5D6D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EA09-3CF2-4263-929D-32625EC5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F2E7-5580-4C8C-9A94-37586A6C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C7D-69C2-4CAF-9B3A-0D148D17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8F8A-96FD-4529-943D-02557381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50B8-3135-46E3-A8F1-D63CE754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F963-E151-4AC1-B2CB-F4D0755A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4F49-6AF9-4CC4-BBA9-0E38E7BC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3286-8BA6-4F69-B195-0140BF36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614-D47D-4C54-B123-F4D29757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2B3-2663-4980-875E-8CAEC650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A2F1-465A-447B-85EF-91FB1737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882-F924-4C1B-9C45-83412CCF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5AE-B630-4857-BE5F-0607FE8C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9DCC-EED9-45A7-A112-F1E0066D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825-DDEC-48AC-BB8B-3C4EFD7F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F8DB-47DB-408D-9381-D6043B2E23E2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3DD0-360B-43C1-AEF9-91E97C1CE5D4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0EF1-0F8E-491A-B525-EDCED7534DC7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646F-0C42-4DCA-9970-CA930BFB12D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0280" y="2133360"/>
            <a:ext cx="820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eaeaea"/>
                </a:solidFill>
                <a:latin typeface="Arial"/>
              </a:rPr>
              <a:t>Вычислительная реализация рангового метода кластеризации</a:t>
            </a:r>
            <a:endParaRPr b="1" lang="en-US" sz="3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4339800"/>
            <a:ext cx="6656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енкин Г.В.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льневосточный федеральный университет, г. Владивос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076D-84B7-4361-844B-735C6ABEB8A7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3290-7DBB-45D3-962D-2615140AE6FF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Математическая модель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меньшее количество точек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орые нужно выбросить, чтобы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C0D9-849E-4DF3-A712-B21775FCA9F8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E860-A00F-4CE4-90C1-4016226F6FF6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Математическая модель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им промежутки, для которых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жество максимальных    промежутков – это результат предельного расширения промежут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635C-B485-401D-883D-4D909B25D2AC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E31A-BD90-4668-8236-977F3BE91297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Математическая модель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жество максимальных промежут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блица: </a:t>
            </a:r>
            <a:r>
              <a:rPr b="0" i="1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всех возможных промежутк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3D3B-5AE3-4E1A-97B9-0A07BF446EDE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A4AB-8BE0-452E-9AF6-A0758B478605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Вычисление </a:t>
            </a:r>
            <a:r>
              <a:rPr b="0" i="1" lang="ru-RU" sz="44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lang="en-US" sz="4400" spc="-1" strike="noStrike" baseline="-25000">
                <a:solidFill>
                  <a:srgbClr val="eaeaea"/>
                </a:solidFill>
                <a:latin typeface="Times New Roman"/>
              </a:rPr>
              <a:t>min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(0)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ногочлен наилучшего равномерного приближения 1-й степ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ямая параллельна ребру выпуклой оболо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4932360" y="2852640"/>
            <a:ext cx="3927600" cy="3279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1504800" y="1887480"/>
            <a:ext cx="6491520" cy="901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8611920" y="54720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5157720" y="2797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8BCB-1F8D-4833-9C82-71E9034C454F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Алгоритм Джарвиса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1763640" y="2052720"/>
            <a:ext cx="58327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0E4B-4D8A-417E-9F26-CE8F6A011997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7547-2EB2-4141-AED0-B9615B4C70DE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Алгоритм Грэхема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748800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7A79-ECF5-4238-8236-442ECB0CD1E2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0B12-42A2-483C-A091-6AAF76E55D83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Модификация Эндрью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2" name="Picture 5" descr="p0131-sel"/>
          <p:cNvPicPr/>
          <p:nvPr/>
        </p:nvPicPr>
        <p:blipFill>
          <a:blip r:embed="rId1"/>
          <a:stretch/>
        </p:blipFill>
        <p:spPr>
          <a:xfrm>
            <a:off x="1116000" y="2492280"/>
            <a:ext cx="770580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F53E-7C0F-47BB-A0B6-5791603704D6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78CD-0F2B-4AFE-BAB8-7D48EDFE16E2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Вычисление </a:t>
            </a:r>
            <a:r>
              <a:rPr b="0" i="1" lang="ru-RU" sz="44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lang="en-US" sz="4400" spc="-1" strike="noStrike" baseline="-25000">
                <a:solidFill>
                  <a:srgbClr val="eaeaea"/>
                </a:solidFill>
                <a:latin typeface="Times New Roman"/>
              </a:rPr>
              <a:t>min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(0)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ератор проект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1035000" y="4191120"/>
            <a:ext cx="7253280" cy="1931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2"/>
          <a:stretch/>
        </p:blipFill>
        <p:spPr>
          <a:xfrm>
            <a:off x="1116000" y="2060640"/>
            <a:ext cx="649116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AC13-76AD-473F-8F1B-FF30818D02BF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B8B3-644D-40B0-980F-1987541E98E7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Вычисление </a:t>
            </a:r>
            <a:r>
              <a:rPr b="0" i="1" lang="ru-RU" sz="44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lang="en-US" sz="4400" spc="-1" strike="noStrike" baseline="-25000">
                <a:solidFill>
                  <a:srgbClr val="eaeaea"/>
                </a:solidFill>
                <a:latin typeface="Times New Roman"/>
              </a:rPr>
              <a:t>min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(0)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98356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4B5B-CBCB-4A1A-84F9-EBD97B998E23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F9E1-C0FE-4124-A7FD-8770DA358EF2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Arial"/>
              </a:rPr>
              <a:t>Построение ломаной - графика функции </a:t>
            </a:r>
            <a:r>
              <a:rPr b="0" i="1" lang="ru-RU" sz="4000" spc="-1" strike="noStrike">
                <a:solidFill>
                  <a:srgbClr val="eaeaea"/>
                </a:solidFill>
                <a:latin typeface="Symbol"/>
                <a:ea typeface="Symbol"/>
              </a:rPr>
              <a:t></a:t>
            </a:r>
            <a:r>
              <a:rPr b="0" lang="en-US" sz="4000" spc="-1" strike="noStrike" baseline="-25000">
                <a:solidFill>
                  <a:srgbClr val="eaeaea"/>
                </a:solidFill>
                <a:latin typeface="Times New Roman"/>
              </a:rPr>
              <a:t>max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алгоритм Джарвиса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1144440" y="2104920"/>
            <a:ext cx="7056720" cy="4399200"/>
          </a:xfrm>
          <a:prstGeom prst="rect">
            <a:avLst/>
          </a:prstGeom>
          <a:ln w="0">
            <a:noFill/>
          </a:ln>
        </p:spPr>
      </p:pic>
      <p:sp>
        <p:nvSpPr>
          <p:cNvPr id="217" name="Line 6"/>
          <p:cNvSpPr/>
          <p:nvPr/>
        </p:nvSpPr>
        <p:spPr>
          <a:xfrm flipV="1">
            <a:off x="1258920" y="3798360"/>
            <a:ext cx="3025800" cy="2955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7"/>
          <p:cNvSpPr/>
          <p:nvPr/>
        </p:nvSpPr>
        <p:spPr>
          <a:xfrm flipV="1">
            <a:off x="4284720" y="3357360"/>
            <a:ext cx="1079280" cy="431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8"/>
          <p:cNvSpPr/>
          <p:nvPr/>
        </p:nvSpPr>
        <p:spPr>
          <a:xfrm flipV="1">
            <a:off x="5364000" y="2924280"/>
            <a:ext cx="792360" cy="433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9"/>
          <p:cNvSpPr/>
          <p:nvPr/>
        </p:nvSpPr>
        <p:spPr>
          <a:xfrm flipV="1">
            <a:off x="6156360" y="2205000"/>
            <a:ext cx="792000" cy="719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6A26-1007-400E-8AAF-CB6706B1A42A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BE53-7D52-4629-81F2-2D39A4FBCA60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Кластер-анализ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289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, x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, ..., x</a:t>
            </a:r>
            <a:r>
              <a:rPr b="0" i="1" lang="en-US" sz="25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знак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, ... </a:t>
            </a: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5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точка в </a:t>
            </a: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ном признаковом пространств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трик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азбиение множества точек на кластер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44"/>
          <p:cNvSpPr/>
          <p:nvPr/>
        </p:nvSpPr>
        <p:spPr>
          <a:xfrm flipV="1">
            <a:off x="6300720" y="249192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45"/>
          <p:cNvSpPr/>
          <p:nvPr/>
        </p:nvSpPr>
        <p:spPr>
          <a:xfrm>
            <a:off x="6300720" y="479736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46"/>
          <p:cNvSpPr/>
          <p:nvPr/>
        </p:nvSpPr>
        <p:spPr>
          <a:xfrm flipH="1">
            <a:off x="4643280" y="4797360"/>
            <a:ext cx="165600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47"/>
          <p:cNvSpPr/>
          <p:nvPr/>
        </p:nvSpPr>
        <p:spPr>
          <a:xfrm>
            <a:off x="8542440" y="4581360"/>
            <a:ext cx="4136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48"/>
          <p:cNvSpPr/>
          <p:nvPr/>
        </p:nvSpPr>
        <p:spPr>
          <a:xfrm>
            <a:off x="4365720" y="5877000"/>
            <a:ext cx="4136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49"/>
          <p:cNvSpPr/>
          <p:nvPr/>
        </p:nvSpPr>
        <p:spPr>
          <a:xfrm>
            <a:off x="6382080" y="2205000"/>
            <a:ext cx="4136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5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50"/>
          <p:cNvSpPr/>
          <p:nvPr/>
        </p:nvSpPr>
        <p:spPr>
          <a:xfrm>
            <a:off x="5651640" y="4179960"/>
            <a:ext cx="179280" cy="1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50"/>
          <p:cNvSpPr/>
          <p:nvPr/>
        </p:nvSpPr>
        <p:spPr>
          <a:xfrm>
            <a:off x="5148360" y="3716280"/>
            <a:ext cx="179280" cy="1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50"/>
          <p:cNvSpPr/>
          <p:nvPr/>
        </p:nvSpPr>
        <p:spPr>
          <a:xfrm>
            <a:off x="5148360" y="4653000"/>
            <a:ext cx="179280" cy="1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Oval 50"/>
          <p:cNvSpPr/>
          <p:nvPr/>
        </p:nvSpPr>
        <p:spPr>
          <a:xfrm>
            <a:off x="5724360" y="3500280"/>
            <a:ext cx="179640" cy="1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val 50"/>
          <p:cNvSpPr/>
          <p:nvPr/>
        </p:nvSpPr>
        <p:spPr>
          <a:xfrm>
            <a:off x="5292720" y="4076640"/>
            <a:ext cx="179280" cy="1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50"/>
          <p:cNvSpPr/>
          <p:nvPr/>
        </p:nvSpPr>
        <p:spPr>
          <a:xfrm>
            <a:off x="7308720" y="3500280"/>
            <a:ext cx="179640" cy="1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Oval 50"/>
          <p:cNvSpPr/>
          <p:nvPr/>
        </p:nvSpPr>
        <p:spPr>
          <a:xfrm>
            <a:off x="6732720" y="3213000"/>
            <a:ext cx="179280" cy="1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Oval 50"/>
          <p:cNvSpPr/>
          <p:nvPr/>
        </p:nvSpPr>
        <p:spPr>
          <a:xfrm>
            <a:off x="7164360" y="2924280"/>
            <a:ext cx="179280" cy="1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Oval 50"/>
          <p:cNvSpPr/>
          <p:nvPr/>
        </p:nvSpPr>
        <p:spPr>
          <a:xfrm>
            <a:off x="8028000" y="2997360"/>
            <a:ext cx="179280" cy="1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7451640" y="2565360"/>
            <a:ext cx="179640" cy="1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Oval 50"/>
          <p:cNvSpPr/>
          <p:nvPr/>
        </p:nvSpPr>
        <p:spPr>
          <a:xfrm>
            <a:off x="7451640" y="3141720"/>
            <a:ext cx="179640" cy="1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Freeform 30"/>
          <p:cNvSpPr/>
          <p:nvPr/>
        </p:nvSpPr>
        <p:spPr>
          <a:xfrm>
            <a:off x="4811760" y="3008160"/>
            <a:ext cx="1417680" cy="208944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2089440"/>
              <a:gd name="textAreaBottom" fmla="*/ 2089800 h 2089440"/>
            </a:gdLst>
            <a:ahLst/>
            <a:rect l="textAreaLeft" t="textAreaTop" r="textAreaRight" b="textAreaBottom"/>
            <a:pathLst>
              <a:path w="893" h="1316">
                <a:moveTo>
                  <a:pt x="76" y="401"/>
                </a:moveTo>
                <a:cubicBezTo>
                  <a:pt x="121" y="227"/>
                  <a:pt x="182" y="76"/>
                  <a:pt x="303" y="38"/>
                </a:cubicBezTo>
                <a:cubicBezTo>
                  <a:pt x="424" y="0"/>
                  <a:pt x="711" y="68"/>
                  <a:pt x="802" y="174"/>
                </a:cubicBezTo>
                <a:cubicBezTo>
                  <a:pt x="893" y="280"/>
                  <a:pt x="870" y="514"/>
                  <a:pt x="847" y="673"/>
                </a:cubicBezTo>
                <a:cubicBezTo>
                  <a:pt x="824" y="832"/>
                  <a:pt x="763" y="1021"/>
                  <a:pt x="665" y="1127"/>
                </a:cubicBezTo>
                <a:cubicBezTo>
                  <a:pt x="567" y="1233"/>
                  <a:pt x="363" y="1316"/>
                  <a:pt x="257" y="1308"/>
                </a:cubicBezTo>
                <a:cubicBezTo>
                  <a:pt x="151" y="1300"/>
                  <a:pt x="60" y="1232"/>
                  <a:pt x="30" y="1081"/>
                </a:cubicBezTo>
                <a:cubicBezTo>
                  <a:pt x="0" y="930"/>
                  <a:pt x="31" y="575"/>
                  <a:pt x="76" y="401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Freeform 31"/>
          <p:cNvSpPr/>
          <p:nvPr/>
        </p:nvSpPr>
        <p:spPr>
          <a:xfrm>
            <a:off x="6456240" y="2325600"/>
            <a:ext cx="1932120" cy="1546200"/>
          </a:xfrm>
          <a:custGeom>
            <a:avLst/>
            <a:gdLst>
              <a:gd name="textAreaLeft" fmla="*/ 0 w 1932120"/>
              <a:gd name="textAreaRight" fmla="*/ 1932480 w 1932120"/>
              <a:gd name="textAreaTop" fmla="*/ 0 h 1546200"/>
              <a:gd name="textAreaBottom" fmla="*/ 1546560 h 1546200"/>
            </a:gdLst>
            <a:ahLst/>
            <a:rect l="textAreaLeft" t="textAreaTop" r="textAreaRight" b="textAreaBottom"/>
            <a:pathLst>
              <a:path w="1217" h="974">
                <a:moveTo>
                  <a:pt x="83" y="377"/>
                </a:moveTo>
                <a:cubicBezTo>
                  <a:pt x="166" y="249"/>
                  <a:pt x="491" y="0"/>
                  <a:pt x="673" y="15"/>
                </a:cubicBezTo>
                <a:cubicBezTo>
                  <a:pt x="855" y="30"/>
                  <a:pt x="1127" y="332"/>
                  <a:pt x="1172" y="468"/>
                </a:cubicBezTo>
                <a:cubicBezTo>
                  <a:pt x="1217" y="604"/>
                  <a:pt x="1051" y="748"/>
                  <a:pt x="945" y="831"/>
                </a:cubicBezTo>
                <a:cubicBezTo>
                  <a:pt x="839" y="914"/>
                  <a:pt x="665" y="974"/>
                  <a:pt x="537" y="967"/>
                </a:cubicBezTo>
                <a:cubicBezTo>
                  <a:pt x="409" y="960"/>
                  <a:pt x="257" y="884"/>
                  <a:pt x="174" y="786"/>
                </a:cubicBezTo>
                <a:cubicBezTo>
                  <a:pt x="91" y="688"/>
                  <a:pt x="0" y="505"/>
                  <a:pt x="83" y="377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6A00-94C6-423B-A097-6E713A2E6B52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29D8-BB36-4B89-99C5-DB1B386363EF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Arial"/>
              </a:rPr>
              <a:t>Построение ломаной - графика функции </a:t>
            </a:r>
            <a:r>
              <a:rPr b="0" i="1" lang="ru-RU" sz="4000" spc="-1" strike="noStrike">
                <a:solidFill>
                  <a:srgbClr val="eaeaea"/>
                </a:solidFill>
                <a:latin typeface="Symbol"/>
                <a:ea typeface="Symbol"/>
              </a:rPr>
              <a:t></a:t>
            </a:r>
            <a:r>
              <a:rPr b="0" lang="en-US" sz="4000" spc="-1" strike="noStrike" baseline="-25000">
                <a:solidFill>
                  <a:srgbClr val="eaeaea"/>
                </a:solidFill>
                <a:latin typeface="Times New Roman"/>
              </a:rPr>
              <a:t>max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алгоритм Грэхема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7129440" cy="4441680"/>
          </a:xfrm>
          <a:prstGeom prst="rect">
            <a:avLst/>
          </a:prstGeom>
          <a:ln w="0">
            <a:noFill/>
          </a:ln>
        </p:spPr>
      </p:pic>
      <p:sp>
        <p:nvSpPr>
          <p:cNvPr id="225" name="Line 4"/>
          <p:cNvSpPr/>
          <p:nvPr/>
        </p:nvSpPr>
        <p:spPr>
          <a:xfrm flipV="1">
            <a:off x="1187280" y="3789360"/>
            <a:ext cx="3024360" cy="28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Line 5"/>
          <p:cNvSpPr/>
          <p:nvPr/>
        </p:nvSpPr>
        <p:spPr>
          <a:xfrm flipV="1">
            <a:off x="4211640" y="3357360"/>
            <a:ext cx="1081080" cy="431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Line 6"/>
          <p:cNvSpPr/>
          <p:nvPr/>
        </p:nvSpPr>
        <p:spPr>
          <a:xfrm flipV="1">
            <a:off x="5292720" y="2924280"/>
            <a:ext cx="719280" cy="433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Line 9"/>
          <p:cNvSpPr/>
          <p:nvPr/>
        </p:nvSpPr>
        <p:spPr>
          <a:xfrm flipV="1">
            <a:off x="6075360" y="2195640"/>
            <a:ext cx="792000" cy="704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8D72-BFBB-43F3-B8D5-8A333FE497F0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EB1E-439D-474E-924C-E241A22EF395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Вычисление </a:t>
            </a:r>
            <a:r>
              <a:rPr b="0" i="1" lang="ru-RU" sz="44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lang="en-US" sz="4400" spc="-1" strike="noStrike" baseline="-25000">
                <a:solidFill>
                  <a:srgbClr val="eaeaea"/>
                </a:solidFill>
                <a:latin typeface="Times New Roman"/>
              </a:rPr>
              <a:t>min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eaeaea"/>
                </a:solidFill>
                <a:latin typeface="Symbol"/>
                <a:ea typeface="Symbol"/>
              </a:rPr>
              <a:t></a:t>
            </a:r>
            <a:r>
              <a:rPr b="0" lang="ru-RU" sz="4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7253280" cy="1016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2"/>
          <a:stretch/>
        </p:blipFill>
        <p:spPr>
          <a:xfrm>
            <a:off x="-181080" y="3797280"/>
            <a:ext cx="943776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8D6D-8CB1-4E13-B0B7-73F834E6FDB9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CA1F-F940-4DCC-BE12-F47168B68CD7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Вычисление </a:t>
            </a:r>
            <a:r>
              <a:rPr b="0" i="1" lang="ru-RU" sz="44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lang="en-US" sz="4400" spc="-1" strike="noStrike" baseline="-25000">
                <a:solidFill>
                  <a:srgbClr val="eaeaea"/>
                </a:solidFill>
                <a:latin typeface="Times New Roman"/>
              </a:rPr>
              <a:t>min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eaeaea"/>
                </a:solidFill>
                <a:latin typeface="Symbol"/>
                <a:ea typeface="Symbol"/>
              </a:rPr>
              <a:t></a:t>
            </a:r>
            <a:r>
              <a:rPr b="0" lang="ru-RU" sz="4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674532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C872-1CFC-44A1-B3E4-0BF7903724D7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18E3-E42F-4159-8265-1360856B7729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eaeaea"/>
                </a:solidFill>
                <a:latin typeface="Arial"/>
              </a:rPr>
              <a:t>Построение ломаной - графика функции </a:t>
            </a:r>
            <a:r>
              <a:rPr b="0" i="1" lang="ru-RU" sz="3800" spc="-1" strike="noStrike">
                <a:solidFill>
                  <a:srgbClr val="eaeaea"/>
                </a:solidFill>
                <a:latin typeface="Symbol"/>
                <a:ea typeface="Symbol"/>
              </a:rPr>
              <a:t></a:t>
            </a:r>
            <a:r>
              <a:rPr b="0" lang="en-US" sz="3800" spc="-1" strike="noStrike" baseline="-25000">
                <a:solidFill>
                  <a:srgbClr val="eaeaea"/>
                </a:solidFill>
                <a:latin typeface="Times New Roman"/>
              </a:rPr>
              <a:t>max</a:t>
            </a:r>
            <a:r>
              <a:rPr b="0" lang="ru-RU" sz="3800" spc="-1" strike="noStrike" baseline="30000">
                <a:solidFill>
                  <a:srgbClr val="eaeaea"/>
                </a:solidFill>
                <a:latin typeface="Times New Roman"/>
              </a:rPr>
              <a:t>(</a:t>
            </a:r>
            <a:r>
              <a:rPr b="0" i="1" lang="ru-RU" sz="3800" spc="-1" strike="noStrike" baseline="30000">
                <a:solidFill>
                  <a:srgbClr val="eaeaea"/>
                </a:solidFill>
                <a:latin typeface="Symbol"/>
                <a:ea typeface="Symbol"/>
              </a:rPr>
              <a:t></a:t>
            </a:r>
            <a:r>
              <a:rPr b="0" lang="ru-RU" sz="3800" spc="-1" strike="noStrike" baseline="30000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3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eaeaea"/>
                </a:solidFill>
                <a:latin typeface="Symbol"/>
                <a:ea typeface="Symbol"/>
              </a:rPr>
              <a:t></a:t>
            </a:r>
            <a:r>
              <a:rPr b="0" lang="en-US" sz="38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3800" spc="-1" strike="noStrike">
                <a:solidFill>
                  <a:srgbClr val="eaeaea"/>
                </a:solidFill>
                <a:latin typeface="Arial"/>
              </a:rPr>
              <a:t>:</a:t>
            </a:r>
            <a:br>
              <a:rPr sz="3800"/>
            </a:br>
            <a:r>
              <a:rPr b="0" lang="ru-RU" sz="3800" spc="-1" strike="noStrike">
                <a:solidFill>
                  <a:srgbClr val="eaeaea"/>
                </a:solidFill>
                <a:latin typeface="Arial"/>
              </a:rPr>
              <a:t>обобщённый алгоритм Грэхема</a:t>
            </a:r>
            <a:endParaRPr b="1" lang="en-US" sz="3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Picture 8" descr=""/>
          <p:cNvPicPr/>
          <p:nvPr/>
        </p:nvPicPr>
        <p:blipFill>
          <a:blip r:embed="rId1"/>
          <a:stretch/>
        </p:blipFill>
        <p:spPr>
          <a:xfrm>
            <a:off x="971640" y="2062080"/>
            <a:ext cx="7129440" cy="4442040"/>
          </a:xfrm>
          <a:prstGeom prst="rect">
            <a:avLst/>
          </a:prstGeom>
          <a:ln w="0">
            <a:noFill/>
          </a:ln>
        </p:spPr>
      </p:pic>
      <p:sp>
        <p:nvSpPr>
          <p:cNvPr id="242" name="Line 9"/>
          <p:cNvSpPr/>
          <p:nvPr/>
        </p:nvSpPr>
        <p:spPr>
          <a:xfrm flipV="1">
            <a:off x="1116000" y="3789360"/>
            <a:ext cx="2951280" cy="28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Line 10"/>
          <p:cNvSpPr/>
          <p:nvPr/>
        </p:nvSpPr>
        <p:spPr>
          <a:xfrm flipV="1">
            <a:off x="4067280" y="3357360"/>
            <a:ext cx="1152360" cy="431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Line 11"/>
          <p:cNvSpPr/>
          <p:nvPr/>
        </p:nvSpPr>
        <p:spPr>
          <a:xfrm flipV="1">
            <a:off x="5219640" y="2924280"/>
            <a:ext cx="720720" cy="433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5940360" y="2133720"/>
            <a:ext cx="936720" cy="7905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1042920" y="3798720"/>
            <a:ext cx="3024360" cy="115272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4067280" y="3715920"/>
            <a:ext cx="504720" cy="7308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4572000" y="3357720"/>
            <a:ext cx="647640" cy="3585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Line 16"/>
          <p:cNvSpPr/>
          <p:nvPr/>
        </p:nvSpPr>
        <p:spPr>
          <a:xfrm flipV="1">
            <a:off x="5292720" y="3160440"/>
            <a:ext cx="431640" cy="14292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Line 17"/>
          <p:cNvSpPr/>
          <p:nvPr/>
        </p:nvSpPr>
        <p:spPr>
          <a:xfrm flipV="1">
            <a:off x="5724360" y="2924280"/>
            <a:ext cx="216000" cy="217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Line 18"/>
          <p:cNvSpPr/>
          <p:nvPr/>
        </p:nvSpPr>
        <p:spPr>
          <a:xfrm flipV="1">
            <a:off x="5940360" y="2133720"/>
            <a:ext cx="1368360" cy="7905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2D2E-0960-4067-A17E-08DE0BBC02A9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D708-97FC-4C1B-9AAB-A2E4C61F4669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Время выполнения алгоритмов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бщённый алгоритм Грэхема –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)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жество максимальных промежутков –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)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о независимых подзадач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но распараллелить вычис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можны вычисления для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DDCC-0033-4E63-8539-43A51AF2C0BC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D047-4F1A-40BA-BF17-A40CA5BF31D9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Программа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ход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ходные данные в формат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ходные параметры: </a:t>
            </a: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ход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овина минимальной высоты поло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нимальное количество аномальных точ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чения параметра </a:t>
            </a: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жество максимальных промежут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80DE-EBE3-4849-82C1-820701B0D1F2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048B-89C4-48D7-9550-9E88396392ED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Программа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3" name="Picture 4" descr="fig1"/>
          <p:cNvPicPr/>
          <p:nvPr/>
        </p:nvPicPr>
        <p:blipFill>
          <a:blip r:embed="rId1"/>
          <a:stretch/>
        </p:blipFill>
        <p:spPr>
          <a:xfrm>
            <a:off x="2401920" y="1389240"/>
            <a:ext cx="477828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9410-4E94-41FA-BC23-3A26EFCDB6E2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24EC-F93D-4CDB-AED9-EA886E805200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Программа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4" descr="fig2"/>
          <p:cNvPicPr/>
          <p:nvPr/>
        </p:nvPicPr>
        <p:blipFill>
          <a:blip r:embed="rId1"/>
          <a:stretch/>
        </p:blipFill>
        <p:spPr>
          <a:xfrm>
            <a:off x="2268360" y="2205000"/>
            <a:ext cx="477864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2836-C31F-4E6C-AEB0-7725EFEA5248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BC9E-C76A-4784-988A-3B16D0E5D938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Программа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4" descr="fig3"/>
          <p:cNvPicPr/>
          <p:nvPr/>
        </p:nvPicPr>
        <p:blipFill>
          <a:blip r:embed="rId1"/>
          <a:stretch/>
        </p:blipFill>
        <p:spPr>
          <a:xfrm>
            <a:off x="2340000" y="2205000"/>
            <a:ext cx="47782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BB5B-49B5-40A9-84D5-10E8F4EE62C6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DE04-CC2D-46DF-8AEE-70300A3C6C1B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Программа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4" descr="fig4"/>
          <p:cNvPicPr/>
          <p:nvPr/>
        </p:nvPicPr>
        <p:blipFill>
          <a:blip r:embed="rId1"/>
          <a:stretch/>
        </p:blipFill>
        <p:spPr>
          <a:xfrm>
            <a:off x="2268360" y="2133720"/>
            <a:ext cx="477864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2169-2F29-4118-ABAF-14E8FDC68AB5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70C9-F57A-4EAB-BBBF-00F07CF69A41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Ранговый метод кластеризации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ходные да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орядочиваются по возраста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ждому значению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вится в соответствие порядковый номер – ранг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2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547640" y="4292640"/>
            <a:ext cx="6745320" cy="1295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395360" y="5635800"/>
            <a:ext cx="675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* Гузев М. А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Черныш Е. В. Ранговый анализ в задач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териза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нформатика и системы управ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09. № 3(21). С. 13-1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9259-4DE9-4BAF-B909-3844265DF098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BBB9-16EC-4A78-A92D-C7930CB51577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Программа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9" name="Picture 4" descr="fig5"/>
          <p:cNvPicPr/>
          <p:nvPr/>
        </p:nvPicPr>
        <p:blipFill>
          <a:blip r:embed="rId1"/>
          <a:stretch/>
        </p:blipFill>
        <p:spPr>
          <a:xfrm>
            <a:off x="2340000" y="2708280"/>
            <a:ext cx="477828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5C98-026A-4C00-80A3-0FC963ECAF1B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EBB4-A36C-47C6-8816-DCDF2AB49BB2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Пример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6913800" cy="387684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5"/>
          <p:cNvSpPr/>
          <p:nvPr/>
        </p:nvSpPr>
        <p:spPr>
          <a:xfrm rot="5614800">
            <a:off x="6243120" y="2226960"/>
            <a:ext cx="504720" cy="2521080"/>
          </a:xfrm>
          <a:custGeom>
            <a:avLst/>
            <a:gdLst>
              <a:gd name="textAreaLeft" fmla="*/ 322560 w 504720"/>
              <a:gd name="textAreaRight" fmla="*/ 505080 w 50472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AutoShape 6"/>
          <p:cNvSpPr/>
          <p:nvPr/>
        </p:nvSpPr>
        <p:spPr>
          <a:xfrm rot="16752600">
            <a:off x="4636080" y="3343680"/>
            <a:ext cx="432000" cy="1224000"/>
          </a:xfrm>
          <a:custGeom>
            <a:avLst/>
            <a:gdLst>
              <a:gd name="textAreaLeft" fmla="*/ 276120 w 432000"/>
              <a:gd name="textAreaRight" fmla="*/ 432360 w 432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AutoShape 7"/>
          <p:cNvSpPr/>
          <p:nvPr/>
        </p:nvSpPr>
        <p:spPr>
          <a:xfrm rot="5976600">
            <a:off x="3597480" y="1856520"/>
            <a:ext cx="628560" cy="2468520"/>
          </a:xfrm>
          <a:custGeom>
            <a:avLst/>
            <a:gdLst>
              <a:gd name="textAreaLeft" fmla="*/ 401760 w 628560"/>
              <a:gd name="textAreaRight" fmla="*/ 628920 w 628560"/>
              <a:gd name="textAreaTop" fmla="*/ 64080 h 2468520"/>
              <a:gd name="textAreaBottom" fmla="*/ 2404440 h 24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AutoShape 10"/>
          <p:cNvSpPr/>
          <p:nvPr/>
        </p:nvSpPr>
        <p:spPr>
          <a:xfrm rot="16834800">
            <a:off x="2518560" y="2599200"/>
            <a:ext cx="439560" cy="1654200"/>
          </a:xfrm>
          <a:custGeom>
            <a:avLst/>
            <a:gdLst>
              <a:gd name="textAreaLeft" fmla="*/ 280800 w 439560"/>
              <a:gd name="textAreaRight" fmla="*/ 439920 w 439560"/>
              <a:gd name="textAreaTop" fmla="*/ 42840 h 1654200"/>
              <a:gd name="textAreaBottom" fmla="*/ 1611360 h 16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AutoShape 11"/>
          <p:cNvSpPr/>
          <p:nvPr/>
        </p:nvSpPr>
        <p:spPr>
          <a:xfrm rot="5976600">
            <a:off x="2221920" y="2100240"/>
            <a:ext cx="574560" cy="1244520"/>
          </a:xfrm>
          <a:custGeom>
            <a:avLst/>
            <a:gdLst>
              <a:gd name="textAreaLeft" fmla="*/ 367200 w 574560"/>
              <a:gd name="textAreaRight" fmla="*/ 574920 w 574560"/>
              <a:gd name="textAreaTop" fmla="*/ 32400 h 1244520"/>
              <a:gd name="textAreaBottom" fmla="*/ 1212120 h 12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B139-9A0C-4B77-B635-C26D83C883E9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75EC-53C0-48BF-8DF9-DA3448E72CA8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-1000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Arial"/>
              </a:rPr>
              <a:t>Кластеризация стран мира по численности населения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92" name="Object 2"/>
          <p:cNvGraphicFramePr/>
          <p:nvPr/>
        </p:nvGraphicFramePr>
        <p:xfrm>
          <a:off x="2050920" y="1268280"/>
          <a:ext cx="5894640" cy="59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68280"/>
                    <a:ext cx="589464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AutoShape 7"/>
          <p:cNvSpPr/>
          <p:nvPr/>
        </p:nvSpPr>
        <p:spPr>
          <a:xfrm rot="7949400">
            <a:off x="6515280" y="4364640"/>
            <a:ext cx="358920" cy="1656000"/>
          </a:xfrm>
          <a:custGeom>
            <a:avLst/>
            <a:gdLst>
              <a:gd name="textAreaLeft" fmla="*/ 229320 w 358920"/>
              <a:gd name="textAreaRight" fmla="*/ 359280 w 35892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AutoShape 9"/>
          <p:cNvSpPr/>
          <p:nvPr/>
        </p:nvSpPr>
        <p:spPr>
          <a:xfrm rot="8503200">
            <a:off x="5628960" y="3435480"/>
            <a:ext cx="358560" cy="1280880"/>
          </a:xfrm>
          <a:custGeom>
            <a:avLst/>
            <a:gdLst>
              <a:gd name="textAreaLeft" fmla="*/ 228960 w 358560"/>
              <a:gd name="textAreaRight" fmla="*/ 358560 w 358560"/>
              <a:gd name="textAreaTop" fmla="*/ 33120 h 1280880"/>
              <a:gd name="textAreaBottom" fmla="*/ 1247760 h 12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AutoShape 10"/>
          <p:cNvSpPr/>
          <p:nvPr/>
        </p:nvSpPr>
        <p:spPr>
          <a:xfrm rot="7581600">
            <a:off x="4159080" y="1320840"/>
            <a:ext cx="358560" cy="2990880"/>
          </a:xfrm>
          <a:custGeom>
            <a:avLst/>
            <a:gdLst>
              <a:gd name="textAreaLeft" fmla="*/ 228960 w 358560"/>
              <a:gd name="textAreaRight" fmla="*/ 358560 w 358560"/>
              <a:gd name="textAreaTop" fmla="*/ 77760 h 2990880"/>
              <a:gd name="textAreaBottom" fmla="*/ 2913120 h 299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Line 11"/>
          <p:cNvSpPr/>
          <p:nvPr/>
        </p:nvSpPr>
        <p:spPr>
          <a:xfrm flipH="1">
            <a:off x="2411280" y="1628640"/>
            <a:ext cx="144720" cy="287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2159640" y="1852560"/>
            <a:ext cx="52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Китай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Line 15"/>
          <p:cNvSpPr/>
          <p:nvPr/>
        </p:nvSpPr>
        <p:spPr>
          <a:xfrm flipH="1">
            <a:off x="2914560" y="2157480"/>
            <a:ext cx="14472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2669040" y="238140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СШ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19"/>
          <p:cNvSpPr/>
          <p:nvPr/>
        </p:nvSpPr>
        <p:spPr>
          <a:xfrm flipH="1">
            <a:off x="3450960" y="2413080"/>
            <a:ext cx="14436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Text Box 20"/>
          <p:cNvSpPr/>
          <p:nvPr/>
        </p:nvSpPr>
        <p:spPr>
          <a:xfrm>
            <a:off x="3149640" y="263700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Росс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Line 21"/>
          <p:cNvSpPr/>
          <p:nvPr/>
        </p:nvSpPr>
        <p:spPr>
          <a:xfrm flipH="1">
            <a:off x="3643200" y="2181240"/>
            <a:ext cx="14472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Text Box 22"/>
          <p:cNvSpPr/>
          <p:nvPr/>
        </p:nvSpPr>
        <p:spPr>
          <a:xfrm>
            <a:off x="3502440" y="1979640"/>
            <a:ext cx="6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Япон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Line 25"/>
          <p:cNvSpPr/>
          <p:nvPr/>
        </p:nvSpPr>
        <p:spPr>
          <a:xfrm flipH="1">
            <a:off x="4051080" y="2436840"/>
            <a:ext cx="14436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Text Box 26"/>
          <p:cNvSpPr/>
          <p:nvPr/>
        </p:nvSpPr>
        <p:spPr>
          <a:xfrm>
            <a:off x="3910680" y="2235240"/>
            <a:ext cx="6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Франц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Line 31"/>
          <p:cNvSpPr/>
          <p:nvPr/>
        </p:nvSpPr>
        <p:spPr>
          <a:xfrm flipH="1">
            <a:off x="3995640" y="2852640"/>
            <a:ext cx="14472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32"/>
          <p:cNvSpPr/>
          <p:nvPr/>
        </p:nvSpPr>
        <p:spPr>
          <a:xfrm>
            <a:off x="3637080" y="3068640"/>
            <a:ext cx="60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Южна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Коре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Line 35"/>
          <p:cNvSpPr/>
          <p:nvPr/>
        </p:nvSpPr>
        <p:spPr>
          <a:xfrm flipH="1">
            <a:off x="4363920" y="3125880"/>
            <a:ext cx="14472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36"/>
          <p:cNvSpPr/>
          <p:nvPr/>
        </p:nvSpPr>
        <p:spPr>
          <a:xfrm>
            <a:off x="3937320" y="3341520"/>
            <a:ext cx="75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Северна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Коре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Line 37"/>
          <p:cNvSpPr/>
          <p:nvPr/>
        </p:nvSpPr>
        <p:spPr>
          <a:xfrm flipH="1">
            <a:off x="4700160" y="2940120"/>
            <a:ext cx="14436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Text Box 40"/>
          <p:cNvSpPr/>
          <p:nvPr/>
        </p:nvSpPr>
        <p:spPr>
          <a:xfrm>
            <a:off x="4477320" y="272412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Казахстан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Line 43"/>
          <p:cNvSpPr/>
          <p:nvPr/>
        </p:nvSpPr>
        <p:spPr>
          <a:xfrm flipH="1">
            <a:off x="4979880" y="3205080"/>
            <a:ext cx="14472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44"/>
          <p:cNvSpPr/>
          <p:nvPr/>
        </p:nvSpPr>
        <p:spPr>
          <a:xfrm>
            <a:off x="4791960" y="299736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Израиль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Line 45"/>
          <p:cNvSpPr/>
          <p:nvPr/>
        </p:nvSpPr>
        <p:spPr>
          <a:xfrm flipH="1">
            <a:off x="4932360" y="3645000"/>
            <a:ext cx="223920" cy="43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 Box 46"/>
          <p:cNvSpPr/>
          <p:nvPr/>
        </p:nvSpPr>
        <p:spPr>
          <a:xfrm>
            <a:off x="4480920" y="3963960"/>
            <a:ext cx="84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Финлянд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Line 49"/>
          <p:cNvSpPr/>
          <p:nvPr/>
        </p:nvSpPr>
        <p:spPr>
          <a:xfrm flipH="1">
            <a:off x="5243400" y="3373560"/>
            <a:ext cx="14472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50"/>
          <p:cNvSpPr/>
          <p:nvPr/>
        </p:nvSpPr>
        <p:spPr>
          <a:xfrm>
            <a:off x="5150520" y="314172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Груз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Line 53"/>
          <p:cNvSpPr/>
          <p:nvPr/>
        </p:nvSpPr>
        <p:spPr>
          <a:xfrm flipH="1">
            <a:off x="5333760" y="3494160"/>
            <a:ext cx="14436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54"/>
          <p:cNvSpPr/>
          <p:nvPr/>
        </p:nvSpPr>
        <p:spPr>
          <a:xfrm>
            <a:off x="5349960" y="330984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Молдав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Line 55"/>
          <p:cNvSpPr/>
          <p:nvPr/>
        </p:nvSpPr>
        <p:spPr>
          <a:xfrm flipH="1">
            <a:off x="5411520" y="3645000"/>
            <a:ext cx="168120" cy="215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56"/>
          <p:cNvSpPr/>
          <p:nvPr/>
        </p:nvSpPr>
        <p:spPr>
          <a:xfrm>
            <a:off x="5438880" y="3500280"/>
            <a:ext cx="75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Монгол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Line 57"/>
          <p:cNvSpPr/>
          <p:nvPr/>
        </p:nvSpPr>
        <p:spPr>
          <a:xfrm flipH="1">
            <a:off x="5340240" y="4133880"/>
            <a:ext cx="223920" cy="43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58"/>
          <p:cNvSpPr/>
          <p:nvPr/>
        </p:nvSpPr>
        <p:spPr>
          <a:xfrm>
            <a:off x="4949280" y="450864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Эстон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Line 59"/>
          <p:cNvSpPr/>
          <p:nvPr/>
        </p:nvSpPr>
        <p:spPr>
          <a:xfrm flipH="1">
            <a:off x="5500440" y="4421160"/>
            <a:ext cx="223560" cy="432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60"/>
          <p:cNvSpPr/>
          <p:nvPr/>
        </p:nvSpPr>
        <p:spPr>
          <a:xfrm>
            <a:off x="5054760" y="4781520"/>
            <a:ext cx="86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Черногор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Line 61"/>
          <p:cNvSpPr/>
          <p:nvPr/>
        </p:nvSpPr>
        <p:spPr>
          <a:xfrm flipH="1">
            <a:off x="5924160" y="4332240"/>
            <a:ext cx="14436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Text Box 62"/>
          <p:cNvSpPr/>
          <p:nvPr/>
        </p:nvSpPr>
        <p:spPr>
          <a:xfrm>
            <a:off x="5775480" y="4133880"/>
            <a:ext cx="76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Исланд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Line 63"/>
          <p:cNvSpPr/>
          <p:nvPr/>
        </p:nvSpPr>
        <p:spPr>
          <a:xfrm flipH="1">
            <a:off x="6611760" y="4973760"/>
            <a:ext cx="223920" cy="43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Text Box 64"/>
          <p:cNvSpPr/>
          <p:nvPr/>
        </p:nvSpPr>
        <p:spPr>
          <a:xfrm>
            <a:off x="6595200" y="477360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Монако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Line 65"/>
          <p:cNvSpPr/>
          <p:nvPr/>
        </p:nvSpPr>
        <p:spPr>
          <a:xfrm flipH="1">
            <a:off x="6308640" y="5397480"/>
            <a:ext cx="223920" cy="432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66"/>
          <p:cNvSpPr/>
          <p:nvPr/>
        </p:nvSpPr>
        <p:spPr>
          <a:xfrm>
            <a:off x="5835960" y="577368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Лихтенштейн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Line 67"/>
          <p:cNvSpPr/>
          <p:nvPr/>
        </p:nvSpPr>
        <p:spPr>
          <a:xfrm>
            <a:off x="7093080" y="6381720"/>
            <a:ext cx="358560" cy="358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Text Box 68"/>
          <p:cNvSpPr/>
          <p:nvPr/>
        </p:nvSpPr>
        <p:spPr>
          <a:xfrm>
            <a:off x="6722640" y="6180120"/>
            <a:ext cx="65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Ватикан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69"/>
          <p:cNvSpPr/>
          <p:nvPr/>
        </p:nvSpPr>
        <p:spPr>
          <a:xfrm>
            <a:off x="2463840" y="1987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Инд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Line 70"/>
          <p:cNvSpPr/>
          <p:nvPr/>
        </p:nvSpPr>
        <p:spPr>
          <a:xfrm flipH="1">
            <a:off x="2771280" y="1684440"/>
            <a:ext cx="96840" cy="376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TextBox 48"/>
          <p:cNvSpPr/>
          <p:nvPr/>
        </p:nvSpPr>
        <p:spPr>
          <a:xfrm>
            <a:off x="2881800" y="307188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γ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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1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Box 49"/>
          <p:cNvSpPr/>
          <p:nvPr/>
        </p:nvSpPr>
        <p:spPr>
          <a:xfrm>
            <a:off x="5739120" y="528624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γ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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1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Box 50"/>
          <p:cNvSpPr/>
          <p:nvPr/>
        </p:nvSpPr>
        <p:spPr>
          <a:xfrm>
            <a:off x="6019920" y="37861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γ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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0416-9EA6-4312-87E4-428A2111A7E1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CB07-29A2-44E6-B387-BB0F9BF052BA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-1000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Arial"/>
              </a:rPr>
              <a:t>Кластеризация стран мира по численности населения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43" name="Object 2"/>
          <p:cNvGraphicFramePr/>
          <p:nvPr/>
        </p:nvGraphicFramePr>
        <p:xfrm>
          <a:off x="2050920" y="1268280"/>
          <a:ext cx="5894640" cy="59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68280"/>
                    <a:ext cx="589464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11"/>
          <p:cNvSpPr/>
          <p:nvPr/>
        </p:nvSpPr>
        <p:spPr>
          <a:xfrm flipH="1">
            <a:off x="2411280" y="1628640"/>
            <a:ext cx="144720" cy="287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12"/>
          <p:cNvSpPr/>
          <p:nvPr/>
        </p:nvSpPr>
        <p:spPr>
          <a:xfrm>
            <a:off x="2159640" y="1852560"/>
            <a:ext cx="52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Китай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Line 15"/>
          <p:cNvSpPr/>
          <p:nvPr/>
        </p:nvSpPr>
        <p:spPr>
          <a:xfrm flipH="1">
            <a:off x="2914560" y="2157480"/>
            <a:ext cx="14472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2669040" y="238140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СШ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Line 19"/>
          <p:cNvSpPr/>
          <p:nvPr/>
        </p:nvSpPr>
        <p:spPr>
          <a:xfrm flipH="1">
            <a:off x="3450960" y="2413080"/>
            <a:ext cx="14436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Text Box 20"/>
          <p:cNvSpPr/>
          <p:nvPr/>
        </p:nvSpPr>
        <p:spPr>
          <a:xfrm>
            <a:off x="3149640" y="263700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Росс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Line 21"/>
          <p:cNvSpPr/>
          <p:nvPr/>
        </p:nvSpPr>
        <p:spPr>
          <a:xfrm flipH="1">
            <a:off x="3643200" y="2181240"/>
            <a:ext cx="14472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Text Box 22"/>
          <p:cNvSpPr/>
          <p:nvPr/>
        </p:nvSpPr>
        <p:spPr>
          <a:xfrm>
            <a:off x="3502440" y="1979640"/>
            <a:ext cx="6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Япон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Line 25"/>
          <p:cNvSpPr/>
          <p:nvPr/>
        </p:nvSpPr>
        <p:spPr>
          <a:xfrm flipH="1">
            <a:off x="4051080" y="2436840"/>
            <a:ext cx="14436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26"/>
          <p:cNvSpPr/>
          <p:nvPr/>
        </p:nvSpPr>
        <p:spPr>
          <a:xfrm>
            <a:off x="3910680" y="2235240"/>
            <a:ext cx="6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Франц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Line 31"/>
          <p:cNvSpPr/>
          <p:nvPr/>
        </p:nvSpPr>
        <p:spPr>
          <a:xfrm flipH="1">
            <a:off x="3995640" y="2852640"/>
            <a:ext cx="14472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Text Box 32"/>
          <p:cNvSpPr/>
          <p:nvPr/>
        </p:nvSpPr>
        <p:spPr>
          <a:xfrm>
            <a:off x="3637080" y="3068640"/>
            <a:ext cx="60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Южна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Коре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Line 35"/>
          <p:cNvSpPr/>
          <p:nvPr/>
        </p:nvSpPr>
        <p:spPr>
          <a:xfrm flipH="1">
            <a:off x="4363920" y="3125880"/>
            <a:ext cx="14472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 Box 36"/>
          <p:cNvSpPr/>
          <p:nvPr/>
        </p:nvSpPr>
        <p:spPr>
          <a:xfrm>
            <a:off x="3937320" y="3341520"/>
            <a:ext cx="75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Северна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Коре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Line 37"/>
          <p:cNvSpPr/>
          <p:nvPr/>
        </p:nvSpPr>
        <p:spPr>
          <a:xfrm flipH="1">
            <a:off x="4700160" y="2940120"/>
            <a:ext cx="14436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Text Box 40"/>
          <p:cNvSpPr/>
          <p:nvPr/>
        </p:nvSpPr>
        <p:spPr>
          <a:xfrm>
            <a:off x="4477320" y="272412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Казахстан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Line 43"/>
          <p:cNvSpPr/>
          <p:nvPr/>
        </p:nvSpPr>
        <p:spPr>
          <a:xfrm flipH="1">
            <a:off x="4979880" y="3205080"/>
            <a:ext cx="14472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Text Box 44"/>
          <p:cNvSpPr/>
          <p:nvPr/>
        </p:nvSpPr>
        <p:spPr>
          <a:xfrm>
            <a:off x="4791960" y="299736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Израиль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Line 45"/>
          <p:cNvSpPr/>
          <p:nvPr/>
        </p:nvSpPr>
        <p:spPr>
          <a:xfrm flipH="1">
            <a:off x="4932360" y="3645000"/>
            <a:ext cx="223920" cy="43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Text Box 46"/>
          <p:cNvSpPr/>
          <p:nvPr/>
        </p:nvSpPr>
        <p:spPr>
          <a:xfrm>
            <a:off x="4480920" y="3963960"/>
            <a:ext cx="84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Финлянд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Line 49"/>
          <p:cNvSpPr/>
          <p:nvPr/>
        </p:nvSpPr>
        <p:spPr>
          <a:xfrm flipH="1">
            <a:off x="5243400" y="3373560"/>
            <a:ext cx="14472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Text Box 50"/>
          <p:cNvSpPr/>
          <p:nvPr/>
        </p:nvSpPr>
        <p:spPr>
          <a:xfrm>
            <a:off x="5150520" y="314172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Груз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Line 53"/>
          <p:cNvSpPr/>
          <p:nvPr/>
        </p:nvSpPr>
        <p:spPr>
          <a:xfrm flipH="1">
            <a:off x="5333760" y="3494160"/>
            <a:ext cx="14436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Text Box 54"/>
          <p:cNvSpPr/>
          <p:nvPr/>
        </p:nvSpPr>
        <p:spPr>
          <a:xfrm>
            <a:off x="5349960" y="330984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Молдав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Line 55"/>
          <p:cNvSpPr/>
          <p:nvPr/>
        </p:nvSpPr>
        <p:spPr>
          <a:xfrm flipH="1">
            <a:off x="5411520" y="3645000"/>
            <a:ext cx="168120" cy="215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Text Box 56"/>
          <p:cNvSpPr/>
          <p:nvPr/>
        </p:nvSpPr>
        <p:spPr>
          <a:xfrm>
            <a:off x="5438880" y="3500280"/>
            <a:ext cx="75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Монгол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Line 57"/>
          <p:cNvSpPr/>
          <p:nvPr/>
        </p:nvSpPr>
        <p:spPr>
          <a:xfrm flipH="1">
            <a:off x="5340240" y="4133880"/>
            <a:ext cx="223920" cy="43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Text Box 58"/>
          <p:cNvSpPr/>
          <p:nvPr/>
        </p:nvSpPr>
        <p:spPr>
          <a:xfrm>
            <a:off x="4949280" y="450864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Эстон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Line 59"/>
          <p:cNvSpPr/>
          <p:nvPr/>
        </p:nvSpPr>
        <p:spPr>
          <a:xfrm flipH="1">
            <a:off x="5500440" y="4421160"/>
            <a:ext cx="223560" cy="432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Text Box 60"/>
          <p:cNvSpPr/>
          <p:nvPr/>
        </p:nvSpPr>
        <p:spPr>
          <a:xfrm>
            <a:off x="5054760" y="4781520"/>
            <a:ext cx="86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Черногор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Line 61"/>
          <p:cNvSpPr/>
          <p:nvPr/>
        </p:nvSpPr>
        <p:spPr>
          <a:xfrm flipH="1">
            <a:off x="5924160" y="4332240"/>
            <a:ext cx="14436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Text Box 62"/>
          <p:cNvSpPr/>
          <p:nvPr/>
        </p:nvSpPr>
        <p:spPr>
          <a:xfrm>
            <a:off x="5775480" y="4133880"/>
            <a:ext cx="76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Исланд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Line 63"/>
          <p:cNvSpPr/>
          <p:nvPr/>
        </p:nvSpPr>
        <p:spPr>
          <a:xfrm flipH="1">
            <a:off x="6611760" y="4973760"/>
            <a:ext cx="223920" cy="43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Text Box 64"/>
          <p:cNvSpPr/>
          <p:nvPr/>
        </p:nvSpPr>
        <p:spPr>
          <a:xfrm>
            <a:off x="6595200" y="477360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Монако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Line 65"/>
          <p:cNvSpPr/>
          <p:nvPr/>
        </p:nvSpPr>
        <p:spPr>
          <a:xfrm flipH="1">
            <a:off x="6308640" y="5397480"/>
            <a:ext cx="223920" cy="432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Text Box 66"/>
          <p:cNvSpPr/>
          <p:nvPr/>
        </p:nvSpPr>
        <p:spPr>
          <a:xfrm>
            <a:off x="5835960" y="577368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Лихтенштейн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Line 67"/>
          <p:cNvSpPr/>
          <p:nvPr/>
        </p:nvSpPr>
        <p:spPr>
          <a:xfrm>
            <a:off x="7093080" y="6381720"/>
            <a:ext cx="358560" cy="358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68"/>
          <p:cNvSpPr/>
          <p:nvPr/>
        </p:nvSpPr>
        <p:spPr>
          <a:xfrm>
            <a:off x="6722640" y="6180120"/>
            <a:ext cx="65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Ватикан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Text Box 69"/>
          <p:cNvSpPr/>
          <p:nvPr/>
        </p:nvSpPr>
        <p:spPr>
          <a:xfrm>
            <a:off x="2463840" y="1987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Инд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Line 70"/>
          <p:cNvSpPr/>
          <p:nvPr/>
        </p:nvSpPr>
        <p:spPr>
          <a:xfrm flipH="1">
            <a:off x="2771280" y="1684440"/>
            <a:ext cx="96840" cy="376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AutoShape 48"/>
          <p:cNvSpPr/>
          <p:nvPr/>
        </p:nvSpPr>
        <p:spPr>
          <a:xfrm rot="18656400">
            <a:off x="6552360" y="4394520"/>
            <a:ext cx="263520" cy="1656000"/>
          </a:xfrm>
          <a:custGeom>
            <a:avLst/>
            <a:gdLst>
              <a:gd name="textAreaLeft" fmla="*/ 0 w 263520"/>
              <a:gd name="textAreaRight" fmla="*/ 95040 w 26352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Text Box 51"/>
          <p:cNvSpPr/>
          <p:nvPr/>
        </p:nvSpPr>
        <p:spPr>
          <a:xfrm>
            <a:off x="910440" y="2133720"/>
            <a:ext cx="11635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ru-RU" sz="25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= 0,2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Text Box 52"/>
          <p:cNvSpPr/>
          <p:nvPr/>
        </p:nvSpPr>
        <p:spPr>
          <a:xfrm>
            <a:off x="905400" y="2593800"/>
            <a:ext cx="933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5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AutoShape 65"/>
          <p:cNvSpPr/>
          <p:nvPr/>
        </p:nvSpPr>
        <p:spPr>
          <a:xfrm rot="8467800">
            <a:off x="5771880" y="4731840"/>
            <a:ext cx="252360" cy="497160"/>
          </a:xfrm>
          <a:custGeom>
            <a:avLst/>
            <a:gdLst>
              <a:gd name="textAreaLeft" fmla="*/ 0 w 252360"/>
              <a:gd name="textAreaRight" fmla="*/ 91080 w 252360"/>
              <a:gd name="textAreaTop" fmla="*/ 12960 h 497160"/>
              <a:gd name="textAreaBottom" fmla="*/ 484200 h 4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AutoShape 66"/>
          <p:cNvSpPr/>
          <p:nvPr/>
        </p:nvSpPr>
        <p:spPr>
          <a:xfrm rot="19533000">
            <a:off x="5599080" y="3422520"/>
            <a:ext cx="558720" cy="1584360"/>
          </a:xfrm>
          <a:custGeom>
            <a:avLst/>
            <a:gdLst>
              <a:gd name="textAreaLeft" fmla="*/ 0 w 558720"/>
              <a:gd name="textAreaRight" fmla="*/ 201600 w 5587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AutoShape 67"/>
          <p:cNvSpPr/>
          <p:nvPr/>
        </p:nvSpPr>
        <p:spPr>
          <a:xfrm rot="8702400">
            <a:off x="5292000" y="3573000"/>
            <a:ext cx="252360" cy="1540080"/>
          </a:xfrm>
          <a:custGeom>
            <a:avLst/>
            <a:gdLst>
              <a:gd name="textAreaLeft" fmla="*/ 0 w 252360"/>
              <a:gd name="textAreaRight" fmla="*/ 91080 w 252360"/>
              <a:gd name="textAreaTop" fmla="*/ 39960 h 1540080"/>
              <a:gd name="textAreaBottom" fmla="*/ 1500120 h 154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AutoShape 68"/>
          <p:cNvSpPr/>
          <p:nvPr/>
        </p:nvSpPr>
        <p:spPr>
          <a:xfrm rot="19402200">
            <a:off x="5475240" y="3204720"/>
            <a:ext cx="558720" cy="1513080"/>
          </a:xfrm>
          <a:custGeom>
            <a:avLst/>
            <a:gdLst>
              <a:gd name="textAreaLeft" fmla="*/ 0 w 558720"/>
              <a:gd name="textAreaRight" fmla="*/ 201600 w 55872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AutoShape 69"/>
          <p:cNvSpPr/>
          <p:nvPr/>
        </p:nvSpPr>
        <p:spPr>
          <a:xfrm rot="7934400">
            <a:off x="4726800" y="2913840"/>
            <a:ext cx="347760" cy="1666800"/>
          </a:xfrm>
          <a:custGeom>
            <a:avLst/>
            <a:gdLst>
              <a:gd name="textAreaLeft" fmla="*/ 0 w 347760"/>
              <a:gd name="textAreaRight" fmla="*/ 125640 w 347760"/>
              <a:gd name="textAreaTop" fmla="*/ 43200 h 1666800"/>
              <a:gd name="textAreaBottom" fmla="*/ 1623600 h 166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AutoShape 70"/>
          <p:cNvSpPr/>
          <p:nvPr/>
        </p:nvSpPr>
        <p:spPr>
          <a:xfrm rot="7862400">
            <a:off x="4199760" y="2503800"/>
            <a:ext cx="581040" cy="2262240"/>
          </a:xfrm>
          <a:custGeom>
            <a:avLst/>
            <a:gdLst>
              <a:gd name="textAreaLeft" fmla="*/ 0 w 581040"/>
              <a:gd name="textAreaRight" fmla="*/ 209880 w 581040"/>
              <a:gd name="textAreaTop" fmla="*/ 58680 h 2262240"/>
              <a:gd name="textAreaBottom" fmla="*/ 2203560 h 226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AutoShape 71"/>
          <p:cNvSpPr/>
          <p:nvPr/>
        </p:nvSpPr>
        <p:spPr>
          <a:xfrm rot="18426000">
            <a:off x="4339080" y="1651680"/>
            <a:ext cx="558720" cy="2602080"/>
          </a:xfrm>
          <a:custGeom>
            <a:avLst/>
            <a:gdLst>
              <a:gd name="textAreaLeft" fmla="*/ 0 w 558720"/>
              <a:gd name="textAreaRight" fmla="*/ 201600 w 558720"/>
              <a:gd name="textAreaTop" fmla="*/ 67680 h 2602080"/>
              <a:gd name="textAreaBottom" fmla="*/ 2534400 h 260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AutoShape 72"/>
          <p:cNvSpPr/>
          <p:nvPr/>
        </p:nvSpPr>
        <p:spPr>
          <a:xfrm rot="18426000">
            <a:off x="4048920" y="1045080"/>
            <a:ext cx="932040" cy="3035160"/>
          </a:xfrm>
          <a:custGeom>
            <a:avLst/>
            <a:gdLst>
              <a:gd name="textAreaLeft" fmla="*/ 0 w 932040"/>
              <a:gd name="textAreaRight" fmla="*/ 336600 w 932040"/>
              <a:gd name="textAreaTop" fmla="*/ 78840 h 3035160"/>
              <a:gd name="textAreaBottom" fmla="*/ 2956320 h 30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AB5E-127A-4E90-BA26-AFFCE6043883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1B22-D745-4AA1-9B3C-BEB9D571A6E4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-1000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Arial"/>
              </a:rPr>
              <a:t>Кластеризация стран мира по численности населения</a:t>
            </a:r>
            <a:endParaRPr b="1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99" name="Object 2"/>
          <p:cNvGraphicFramePr/>
          <p:nvPr/>
        </p:nvGraphicFramePr>
        <p:xfrm>
          <a:off x="2050920" y="1268280"/>
          <a:ext cx="5894640" cy="59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68280"/>
                    <a:ext cx="589464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Line 11"/>
          <p:cNvSpPr/>
          <p:nvPr/>
        </p:nvSpPr>
        <p:spPr>
          <a:xfrm flipH="1">
            <a:off x="2411280" y="1628640"/>
            <a:ext cx="144720" cy="287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2159640" y="1852560"/>
            <a:ext cx="52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Китай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Line 15"/>
          <p:cNvSpPr/>
          <p:nvPr/>
        </p:nvSpPr>
        <p:spPr>
          <a:xfrm flipH="1">
            <a:off x="2914560" y="2157480"/>
            <a:ext cx="14472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2669040" y="238140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СШ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Line 19"/>
          <p:cNvSpPr/>
          <p:nvPr/>
        </p:nvSpPr>
        <p:spPr>
          <a:xfrm flipH="1">
            <a:off x="3450960" y="2413080"/>
            <a:ext cx="14436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3149640" y="263700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Росс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Line 21"/>
          <p:cNvSpPr/>
          <p:nvPr/>
        </p:nvSpPr>
        <p:spPr>
          <a:xfrm flipH="1">
            <a:off x="3643200" y="2181240"/>
            <a:ext cx="14472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3502440" y="1979640"/>
            <a:ext cx="6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Япон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Line 25"/>
          <p:cNvSpPr/>
          <p:nvPr/>
        </p:nvSpPr>
        <p:spPr>
          <a:xfrm flipH="1">
            <a:off x="4051080" y="2436840"/>
            <a:ext cx="14436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Text Box 26"/>
          <p:cNvSpPr/>
          <p:nvPr/>
        </p:nvSpPr>
        <p:spPr>
          <a:xfrm>
            <a:off x="3910680" y="2235240"/>
            <a:ext cx="6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Франц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31"/>
          <p:cNvSpPr/>
          <p:nvPr/>
        </p:nvSpPr>
        <p:spPr>
          <a:xfrm flipH="1">
            <a:off x="3995640" y="2852640"/>
            <a:ext cx="14472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Text Box 32"/>
          <p:cNvSpPr/>
          <p:nvPr/>
        </p:nvSpPr>
        <p:spPr>
          <a:xfrm>
            <a:off x="3637080" y="3068640"/>
            <a:ext cx="60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Южна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Коре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35"/>
          <p:cNvSpPr/>
          <p:nvPr/>
        </p:nvSpPr>
        <p:spPr>
          <a:xfrm flipH="1">
            <a:off x="4363920" y="3125880"/>
            <a:ext cx="14472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36"/>
          <p:cNvSpPr/>
          <p:nvPr/>
        </p:nvSpPr>
        <p:spPr>
          <a:xfrm>
            <a:off x="3937320" y="3341520"/>
            <a:ext cx="75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Северна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Коре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Line 37"/>
          <p:cNvSpPr/>
          <p:nvPr/>
        </p:nvSpPr>
        <p:spPr>
          <a:xfrm flipH="1">
            <a:off x="4700160" y="2940120"/>
            <a:ext cx="14436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Text Box 40"/>
          <p:cNvSpPr/>
          <p:nvPr/>
        </p:nvSpPr>
        <p:spPr>
          <a:xfrm>
            <a:off x="4477320" y="272412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Казахстан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Line 43"/>
          <p:cNvSpPr/>
          <p:nvPr/>
        </p:nvSpPr>
        <p:spPr>
          <a:xfrm flipH="1">
            <a:off x="4979880" y="3205080"/>
            <a:ext cx="14472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44"/>
          <p:cNvSpPr/>
          <p:nvPr/>
        </p:nvSpPr>
        <p:spPr>
          <a:xfrm>
            <a:off x="4791960" y="299736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Израиль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Line 45"/>
          <p:cNvSpPr/>
          <p:nvPr/>
        </p:nvSpPr>
        <p:spPr>
          <a:xfrm flipH="1">
            <a:off x="4932360" y="3645000"/>
            <a:ext cx="223920" cy="43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 Box 46"/>
          <p:cNvSpPr/>
          <p:nvPr/>
        </p:nvSpPr>
        <p:spPr>
          <a:xfrm>
            <a:off x="4480920" y="3963960"/>
            <a:ext cx="84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Финлянд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Line 49"/>
          <p:cNvSpPr/>
          <p:nvPr/>
        </p:nvSpPr>
        <p:spPr>
          <a:xfrm flipH="1">
            <a:off x="5243400" y="3373560"/>
            <a:ext cx="14472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 Box 50"/>
          <p:cNvSpPr/>
          <p:nvPr/>
        </p:nvSpPr>
        <p:spPr>
          <a:xfrm>
            <a:off x="5150520" y="314172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Груз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Line 53"/>
          <p:cNvSpPr/>
          <p:nvPr/>
        </p:nvSpPr>
        <p:spPr>
          <a:xfrm flipH="1">
            <a:off x="5333760" y="3494160"/>
            <a:ext cx="14436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 Box 54"/>
          <p:cNvSpPr/>
          <p:nvPr/>
        </p:nvSpPr>
        <p:spPr>
          <a:xfrm>
            <a:off x="5349960" y="330984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Молдав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Line 55"/>
          <p:cNvSpPr/>
          <p:nvPr/>
        </p:nvSpPr>
        <p:spPr>
          <a:xfrm flipH="1">
            <a:off x="5411520" y="3645000"/>
            <a:ext cx="168120" cy="215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Text Box 56"/>
          <p:cNvSpPr/>
          <p:nvPr/>
        </p:nvSpPr>
        <p:spPr>
          <a:xfrm>
            <a:off x="5438880" y="3500280"/>
            <a:ext cx="75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Монгол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Line 57"/>
          <p:cNvSpPr/>
          <p:nvPr/>
        </p:nvSpPr>
        <p:spPr>
          <a:xfrm flipH="1">
            <a:off x="5340240" y="4133880"/>
            <a:ext cx="223920" cy="43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Text Box 58"/>
          <p:cNvSpPr/>
          <p:nvPr/>
        </p:nvSpPr>
        <p:spPr>
          <a:xfrm>
            <a:off x="4949280" y="450864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Эстон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Line 59"/>
          <p:cNvSpPr/>
          <p:nvPr/>
        </p:nvSpPr>
        <p:spPr>
          <a:xfrm flipH="1">
            <a:off x="5500440" y="4421160"/>
            <a:ext cx="223560" cy="432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Text Box 60"/>
          <p:cNvSpPr/>
          <p:nvPr/>
        </p:nvSpPr>
        <p:spPr>
          <a:xfrm>
            <a:off x="5054760" y="4781520"/>
            <a:ext cx="86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Черногор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Line 61"/>
          <p:cNvSpPr/>
          <p:nvPr/>
        </p:nvSpPr>
        <p:spPr>
          <a:xfrm flipH="1">
            <a:off x="5924160" y="4332240"/>
            <a:ext cx="144360" cy="2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62"/>
          <p:cNvSpPr/>
          <p:nvPr/>
        </p:nvSpPr>
        <p:spPr>
          <a:xfrm>
            <a:off x="5775480" y="4133880"/>
            <a:ext cx="76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Исланд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Line 63"/>
          <p:cNvSpPr/>
          <p:nvPr/>
        </p:nvSpPr>
        <p:spPr>
          <a:xfrm flipH="1">
            <a:off x="6611760" y="4973760"/>
            <a:ext cx="223920" cy="43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64"/>
          <p:cNvSpPr/>
          <p:nvPr/>
        </p:nvSpPr>
        <p:spPr>
          <a:xfrm>
            <a:off x="6595200" y="477360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Монако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Line 65"/>
          <p:cNvSpPr/>
          <p:nvPr/>
        </p:nvSpPr>
        <p:spPr>
          <a:xfrm flipH="1">
            <a:off x="6308640" y="5397480"/>
            <a:ext cx="223920" cy="432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Text Box 66"/>
          <p:cNvSpPr/>
          <p:nvPr/>
        </p:nvSpPr>
        <p:spPr>
          <a:xfrm>
            <a:off x="5835960" y="577368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Лихтенштейн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Line 67"/>
          <p:cNvSpPr/>
          <p:nvPr/>
        </p:nvSpPr>
        <p:spPr>
          <a:xfrm>
            <a:off x="7093080" y="6381720"/>
            <a:ext cx="358560" cy="358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Text Box 68"/>
          <p:cNvSpPr/>
          <p:nvPr/>
        </p:nvSpPr>
        <p:spPr>
          <a:xfrm>
            <a:off x="6722640" y="6180120"/>
            <a:ext cx="65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Ватикан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Text Box 69"/>
          <p:cNvSpPr/>
          <p:nvPr/>
        </p:nvSpPr>
        <p:spPr>
          <a:xfrm>
            <a:off x="2463840" y="1987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Инд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Line 70"/>
          <p:cNvSpPr/>
          <p:nvPr/>
        </p:nvSpPr>
        <p:spPr>
          <a:xfrm flipH="1">
            <a:off x="2771280" y="1684440"/>
            <a:ext cx="96840" cy="376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AutoShape 52"/>
          <p:cNvSpPr/>
          <p:nvPr/>
        </p:nvSpPr>
        <p:spPr>
          <a:xfrm rot="18656400">
            <a:off x="6842520" y="5133240"/>
            <a:ext cx="263520" cy="792000"/>
          </a:xfrm>
          <a:custGeom>
            <a:avLst/>
            <a:gdLst>
              <a:gd name="textAreaLeft" fmla="*/ 0 w 263520"/>
              <a:gd name="textAreaRight" fmla="*/ 95040 w 2635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AutoShape 53"/>
          <p:cNvSpPr/>
          <p:nvPr/>
        </p:nvSpPr>
        <p:spPr>
          <a:xfrm rot="6961200">
            <a:off x="6445080" y="5371920"/>
            <a:ext cx="212760" cy="358560"/>
          </a:xfrm>
          <a:custGeom>
            <a:avLst/>
            <a:gdLst>
              <a:gd name="textAreaLeft" fmla="*/ 0 w 212760"/>
              <a:gd name="textAreaRight" fmla="*/ 76680 w 212760"/>
              <a:gd name="textAreaTop" fmla="*/ 9360 h 358560"/>
              <a:gd name="textAreaBottom" fmla="*/ 34920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AutoShape 54"/>
          <p:cNvSpPr/>
          <p:nvPr/>
        </p:nvSpPr>
        <p:spPr>
          <a:xfrm rot="18656400">
            <a:off x="6356880" y="4854960"/>
            <a:ext cx="263880" cy="576360"/>
          </a:xfrm>
          <a:custGeom>
            <a:avLst/>
            <a:gdLst>
              <a:gd name="textAreaLeft" fmla="*/ 0 w 263880"/>
              <a:gd name="textAreaRight" fmla="*/ 95400 w 2638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AutoShape 55"/>
          <p:cNvSpPr/>
          <p:nvPr/>
        </p:nvSpPr>
        <p:spPr>
          <a:xfrm rot="7967400">
            <a:off x="5987160" y="4963680"/>
            <a:ext cx="335160" cy="576360"/>
          </a:xfrm>
          <a:custGeom>
            <a:avLst/>
            <a:gdLst>
              <a:gd name="textAreaLeft" fmla="*/ 0 w 335160"/>
              <a:gd name="textAreaRight" fmla="*/ 120960 w 3351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AutoShape 56"/>
          <p:cNvSpPr/>
          <p:nvPr/>
        </p:nvSpPr>
        <p:spPr>
          <a:xfrm rot="19571400">
            <a:off x="6026040" y="4731840"/>
            <a:ext cx="263520" cy="216000"/>
          </a:xfrm>
          <a:custGeom>
            <a:avLst/>
            <a:gdLst>
              <a:gd name="textAreaLeft" fmla="*/ 0 w 263520"/>
              <a:gd name="textAreaRight" fmla="*/ 95040 w 26352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Text Box 57"/>
          <p:cNvSpPr/>
          <p:nvPr/>
        </p:nvSpPr>
        <p:spPr>
          <a:xfrm>
            <a:off x="910440" y="2133720"/>
            <a:ext cx="11635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ru-RU" sz="25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= 0,1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ext Box 58"/>
          <p:cNvSpPr/>
          <p:nvPr/>
        </p:nvSpPr>
        <p:spPr>
          <a:xfrm>
            <a:off x="905400" y="2593800"/>
            <a:ext cx="933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5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59"/>
          <p:cNvSpPr/>
          <p:nvPr/>
        </p:nvSpPr>
        <p:spPr>
          <a:xfrm rot="19571400">
            <a:off x="5919840" y="4512960"/>
            <a:ext cx="263520" cy="288720"/>
          </a:xfrm>
          <a:custGeom>
            <a:avLst/>
            <a:gdLst>
              <a:gd name="textAreaLeft" fmla="*/ 0 w 263520"/>
              <a:gd name="textAreaRight" fmla="*/ 95040 w 263520"/>
              <a:gd name="textAreaTop" fmla="*/ 7200 h 288720"/>
              <a:gd name="textAreaBottom" fmla="*/ 2815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AutoShape 60"/>
          <p:cNvSpPr/>
          <p:nvPr/>
        </p:nvSpPr>
        <p:spPr>
          <a:xfrm rot="7843800">
            <a:off x="5509800" y="4316040"/>
            <a:ext cx="263520" cy="504720"/>
          </a:xfrm>
          <a:custGeom>
            <a:avLst/>
            <a:gdLst>
              <a:gd name="textAreaLeft" fmla="*/ 0 w 263520"/>
              <a:gd name="textAreaRight" fmla="*/ 95040 w 2635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AutoShape 61"/>
          <p:cNvSpPr/>
          <p:nvPr/>
        </p:nvSpPr>
        <p:spPr>
          <a:xfrm rot="19571400">
            <a:off x="5559480" y="3938400"/>
            <a:ext cx="263520" cy="360360"/>
          </a:xfrm>
          <a:custGeom>
            <a:avLst/>
            <a:gdLst>
              <a:gd name="textAreaLeft" fmla="*/ 0 w 263520"/>
              <a:gd name="textAreaRight" fmla="*/ 95040 w 263520"/>
              <a:gd name="textAreaTop" fmla="*/ 4320 h 360360"/>
              <a:gd name="textAreaBottom" fmla="*/ 356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4"/>
                  <a:pt x="10800" y="868"/>
                </a:cubicBezTo>
                <a:lnTo>
                  <a:pt x="10800" y="9932"/>
                </a:lnTo>
                <a:cubicBezTo>
                  <a:pt x="10800" y="10366"/>
                  <a:pt x="16200" y="10800"/>
                  <a:pt x="21600" y="10800"/>
                </a:cubicBezTo>
                <a:cubicBezTo>
                  <a:pt x="16200" y="10800"/>
                  <a:pt x="10800" y="11234"/>
                  <a:pt x="10800" y="11668"/>
                </a:cubicBezTo>
                <a:lnTo>
                  <a:pt x="10800" y="20732"/>
                </a:lnTo>
                <a:cubicBezTo>
                  <a:pt x="10800" y="2116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AutoShape 62"/>
          <p:cNvSpPr/>
          <p:nvPr/>
        </p:nvSpPr>
        <p:spPr>
          <a:xfrm rot="8340600">
            <a:off x="5192640" y="3790440"/>
            <a:ext cx="263520" cy="514440"/>
          </a:xfrm>
          <a:custGeom>
            <a:avLst/>
            <a:gdLst>
              <a:gd name="textAreaLeft" fmla="*/ 0 w 263520"/>
              <a:gd name="textAreaRight" fmla="*/ 95040 w 263520"/>
              <a:gd name="textAreaTop" fmla="*/ 6120 h 514440"/>
              <a:gd name="textAreaBottom" fmla="*/ 5083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4"/>
                  <a:pt x="10800" y="868"/>
                </a:cubicBezTo>
                <a:lnTo>
                  <a:pt x="10800" y="9932"/>
                </a:lnTo>
                <a:cubicBezTo>
                  <a:pt x="10800" y="10366"/>
                  <a:pt x="16200" y="10800"/>
                  <a:pt x="21600" y="10800"/>
                </a:cubicBezTo>
                <a:cubicBezTo>
                  <a:pt x="16200" y="10800"/>
                  <a:pt x="10800" y="11234"/>
                  <a:pt x="10800" y="11668"/>
                </a:cubicBezTo>
                <a:lnTo>
                  <a:pt x="10800" y="20732"/>
                </a:lnTo>
                <a:cubicBezTo>
                  <a:pt x="10800" y="2116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AutoShape 63"/>
          <p:cNvSpPr/>
          <p:nvPr/>
        </p:nvSpPr>
        <p:spPr>
          <a:xfrm rot="19571400">
            <a:off x="5364000" y="3499920"/>
            <a:ext cx="263520" cy="509760"/>
          </a:xfrm>
          <a:custGeom>
            <a:avLst/>
            <a:gdLst>
              <a:gd name="textAreaLeft" fmla="*/ 0 w 263520"/>
              <a:gd name="textAreaRight" fmla="*/ 95040 w 263520"/>
              <a:gd name="textAreaTop" fmla="*/ 6840 h 509760"/>
              <a:gd name="textAreaBottom" fmla="*/ 50292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7"/>
                  <a:pt x="10800" y="974"/>
                </a:cubicBezTo>
                <a:lnTo>
                  <a:pt x="10800" y="9826"/>
                </a:lnTo>
                <a:cubicBezTo>
                  <a:pt x="10800" y="10313"/>
                  <a:pt x="16200" y="10800"/>
                  <a:pt x="21600" y="10800"/>
                </a:cubicBezTo>
                <a:cubicBezTo>
                  <a:pt x="16200" y="10800"/>
                  <a:pt x="10800" y="11287"/>
                  <a:pt x="10800" y="11774"/>
                </a:cubicBezTo>
                <a:lnTo>
                  <a:pt x="10800" y="20626"/>
                </a:lnTo>
                <a:cubicBezTo>
                  <a:pt x="10800" y="2111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AutoShape 64"/>
          <p:cNvSpPr/>
          <p:nvPr/>
        </p:nvSpPr>
        <p:spPr>
          <a:xfrm rot="18438600">
            <a:off x="5276520" y="3327120"/>
            <a:ext cx="459000" cy="585720"/>
          </a:xfrm>
          <a:custGeom>
            <a:avLst/>
            <a:gdLst>
              <a:gd name="textAreaLeft" fmla="*/ 0 w 459000"/>
              <a:gd name="textAreaRight" fmla="*/ 165600 w 459000"/>
              <a:gd name="textAreaTop" fmla="*/ 7920 h 585720"/>
              <a:gd name="textAreaBottom" fmla="*/ 57780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7"/>
                  <a:pt x="10800" y="974"/>
                </a:cubicBezTo>
                <a:lnTo>
                  <a:pt x="10800" y="9826"/>
                </a:lnTo>
                <a:cubicBezTo>
                  <a:pt x="10800" y="10313"/>
                  <a:pt x="16200" y="10800"/>
                  <a:pt x="21600" y="10800"/>
                </a:cubicBezTo>
                <a:cubicBezTo>
                  <a:pt x="16200" y="10800"/>
                  <a:pt x="10800" y="11287"/>
                  <a:pt x="10800" y="11774"/>
                </a:cubicBezTo>
                <a:lnTo>
                  <a:pt x="10800" y="20626"/>
                </a:lnTo>
                <a:cubicBezTo>
                  <a:pt x="10800" y="2111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AutoShape 65"/>
          <p:cNvSpPr/>
          <p:nvPr/>
        </p:nvSpPr>
        <p:spPr>
          <a:xfrm rot="8340600">
            <a:off x="5003280" y="3644640"/>
            <a:ext cx="263520" cy="519120"/>
          </a:xfrm>
          <a:custGeom>
            <a:avLst/>
            <a:gdLst>
              <a:gd name="textAreaLeft" fmla="*/ 0 w 263520"/>
              <a:gd name="textAreaRight" fmla="*/ 95040 w 263520"/>
              <a:gd name="textAreaTop" fmla="*/ 6480 h 519120"/>
              <a:gd name="textAreaBottom" fmla="*/ 512640 h 51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4"/>
                  <a:pt x="10800" y="868"/>
                </a:cubicBezTo>
                <a:lnTo>
                  <a:pt x="10800" y="9932"/>
                </a:lnTo>
                <a:cubicBezTo>
                  <a:pt x="10800" y="10366"/>
                  <a:pt x="16200" y="10800"/>
                  <a:pt x="21600" y="10800"/>
                </a:cubicBezTo>
                <a:cubicBezTo>
                  <a:pt x="16200" y="10800"/>
                  <a:pt x="10800" y="11234"/>
                  <a:pt x="10800" y="11668"/>
                </a:cubicBezTo>
                <a:lnTo>
                  <a:pt x="10800" y="20732"/>
                </a:lnTo>
                <a:cubicBezTo>
                  <a:pt x="10800" y="2116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AutoShape 66"/>
          <p:cNvSpPr/>
          <p:nvPr/>
        </p:nvSpPr>
        <p:spPr>
          <a:xfrm rot="8340600">
            <a:off x="4954320" y="3445920"/>
            <a:ext cx="263520" cy="663480"/>
          </a:xfrm>
          <a:custGeom>
            <a:avLst/>
            <a:gdLst>
              <a:gd name="textAreaLeft" fmla="*/ 0 w 263520"/>
              <a:gd name="textAreaRight" fmla="*/ 95040 w 263520"/>
              <a:gd name="textAreaTop" fmla="*/ 8280 h 663480"/>
              <a:gd name="textAreaBottom" fmla="*/ 655200 h 6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4"/>
                  <a:pt x="10800" y="868"/>
                </a:cubicBezTo>
                <a:lnTo>
                  <a:pt x="10800" y="9932"/>
                </a:lnTo>
                <a:cubicBezTo>
                  <a:pt x="10800" y="10366"/>
                  <a:pt x="16200" y="10800"/>
                  <a:pt x="21600" y="10800"/>
                </a:cubicBezTo>
                <a:cubicBezTo>
                  <a:pt x="16200" y="10800"/>
                  <a:pt x="10800" y="11234"/>
                  <a:pt x="10800" y="11668"/>
                </a:cubicBezTo>
                <a:lnTo>
                  <a:pt x="10800" y="20732"/>
                </a:lnTo>
                <a:cubicBezTo>
                  <a:pt x="10800" y="2116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AutoShape 67"/>
          <p:cNvSpPr/>
          <p:nvPr/>
        </p:nvSpPr>
        <p:spPr>
          <a:xfrm rot="18438600">
            <a:off x="4584600" y="2263320"/>
            <a:ext cx="601560" cy="1636560"/>
          </a:xfrm>
          <a:custGeom>
            <a:avLst/>
            <a:gdLst>
              <a:gd name="textAreaLeft" fmla="*/ 0 w 601560"/>
              <a:gd name="textAreaRight" fmla="*/ 217080 w 601560"/>
              <a:gd name="textAreaTop" fmla="*/ 23040 h 1636560"/>
              <a:gd name="textAreaBottom" fmla="*/ 16135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7"/>
                  <a:pt x="10800" y="974"/>
                </a:cubicBezTo>
                <a:lnTo>
                  <a:pt x="10800" y="9826"/>
                </a:lnTo>
                <a:cubicBezTo>
                  <a:pt x="10800" y="10313"/>
                  <a:pt x="16200" y="10800"/>
                  <a:pt x="21600" y="10800"/>
                </a:cubicBezTo>
                <a:cubicBezTo>
                  <a:pt x="16200" y="10800"/>
                  <a:pt x="10800" y="11287"/>
                  <a:pt x="10800" y="11774"/>
                </a:cubicBezTo>
                <a:lnTo>
                  <a:pt x="10800" y="20626"/>
                </a:lnTo>
                <a:cubicBezTo>
                  <a:pt x="10800" y="2111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AutoShape 68"/>
          <p:cNvSpPr/>
          <p:nvPr/>
        </p:nvSpPr>
        <p:spPr>
          <a:xfrm rot="7497600">
            <a:off x="3925440" y="2639520"/>
            <a:ext cx="409680" cy="1152720"/>
          </a:xfrm>
          <a:custGeom>
            <a:avLst/>
            <a:gdLst>
              <a:gd name="textAreaLeft" fmla="*/ 0 w 409680"/>
              <a:gd name="textAreaRight" fmla="*/ 147960 w 409680"/>
              <a:gd name="textAreaTop" fmla="*/ 16200 h 1152720"/>
              <a:gd name="textAreaBottom" fmla="*/ 11365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7"/>
                  <a:pt x="10800" y="974"/>
                </a:cubicBezTo>
                <a:lnTo>
                  <a:pt x="10800" y="9826"/>
                </a:lnTo>
                <a:cubicBezTo>
                  <a:pt x="10800" y="10313"/>
                  <a:pt x="16200" y="10800"/>
                  <a:pt x="21600" y="10800"/>
                </a:cubicBezTo>
                <a:cubicBezTo>
                  <a:pt x="16200" y="10800"/>
                  <a:pt x="10800" y="11287"/>
                  <a:pt x="10800" y="11774"/>
                </a:cubicBezTo>
                <a:lnTo>
                  <a:pt x="10800" y="20626"/>
                </a:lnTo>
                <a:cubicBezTo>
                  <a:pt x="10800" y="2111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AutoShape 69"/>
          <p:cNvSpPr/>
          <p:nvPr/>
        </p:nvSpPr>
        <p:spPr>
          <a:xfrm rot="18145800">
            <a:off x="3901320" y="1722600"/>
            <a:ext cx="601560" cy="1565280"/>
          </a:xfrm>
          <a:custGeom>
            <a:avLst/>
            <a:gdLst>
              <a:gd name="textAreaLeft" fmla="*/ 0 w 601560"/>
              <a:gd name="textAreaRight" fmla="*/ 217080 w 601560"/>
              <a:gd name="textAreaTop" fmla="*/ 21960 h 1565280"/>
              <a:gd name="textAreaBottom" fmla="*/ 1543320 h 156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7"/>
                  <a:pt x="10800" y="974"/>
                </a:cubicBezTo>
                <a:lnTo>
                  <a:pt x="10800" y="9826"/>
                </a:lnTo>
                <a:cubicBezTo>
                  <a:pt x="10800" y="10313"/>
                  <a:pt x="16200" y="10800"/>
                  <a:pt x="21600" y="10800"/>
                </a:cubicBezTo>
                <a:cubicBezTo>
                  <a:pt x="16200" y="10800"/>
                  <a:pt x="10800" y="11287"/>
                  <a:pt x="10800" y="11774"/>
                </a:cubicBezTo>
                <a:lnTo>
                  <a:pt x="10800" y="20626"/>
                </a:lnTo>
                <a:cubicBezTo>
                  <a:pt x="10800" y="2111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AutoShape 70"/>
          <p:cNvSpPr/>
          <p:nvPr/>
        </p:nvSpPr>
        <p:spPr>
          <a:xfrm rot="7240800">
            <a:off x="3216240" y="2131920"/>
            <a:ext cx="601560" cy="1627200"/>
          </a:xfrm>
          <a:custGeom>
            <a:avLst/>
            <a:gdLst>
              <a:gd name="textAreaLeft" fmla="*/ 0 w 601560"/>
              <a:gd name="textAreaRight" fmla="*/ 217080 w 601560"/>
              <a:gd name="textAreaTop" fmla="*/ 22680 h 1627200"/>
              <a:gd name="textAreaBottom" fmla="*/ 1604520 h 16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7"/>
                  <a:pt x="10800" y="974"/>
                </a:cubicBezTo>
                <a:lnTo>
                  <a:pt x="10800" y="9826"/>
                </a:lnTo>
                <a:cubicBezTo>
                  <a:pt x="10800" y="10313"/>
                  <a:pt x="16200" y="10800"/>
                  <a:pt x="21600" y="10800"/>
                </a:cubicBezTo>
                <a:cubicBezTo>
                  <a:pt x="16200" y="10800"/>
                  <a:pt x="10800" y="11287"/>
                  <a:pt x="10800" y="11774"/>
                </a:cubicBezTo>
                <a:lnTo>
                  <a:pt x="10800" y="20626"/>
                </a:lnTo>
                <a:cubicBezTo>
                  <a:pt x="10800" y="2111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Пороговое значение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C52D-36F9-4854-ADD4-6F1E707D255B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2" name="Picture 2" descr=""/>
          <p:cNvPicPr/>
          <p:nvPr/>
        </p:nvPicPr>
        <p:blipFill>
          <a:blip r:embed="rId1"/>
          <a:stretch/>
        </p:blipFill>
        <p:spPr>
          <a:xfrm>
            <a:off x="1071720" y="1928880"/>
            <a:ext cx="3225600" cy="435456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6"/>
          <p:cNvSpPr/>
          <p:nvPr/>
        </p:nvSpPr>
        <p:spPr>
          <a:xfrm>
            <a:off x="4278960" y="48880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отклонение на 20 %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4266360" y="567072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отклонение на 10 %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B9BB-E55D-45E8-82C0-864FCC357829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Улучшение программы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брать вычисление табли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исать отдельную программу, принимающую на вход список интересующих промежутков и вычисляющую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чения параметра </a:t>
            </a:r>
            <a:r>
              <a:rPr b="0" i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чения величины </a:t>
            </a:r>
            <a:r>
              <a:rPr b="0" i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 1, …, </a:t>
            </a:r>
            <a:r>
              <a:rPr b="0" i="1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омальных то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557C-C58F-464B-8B59-8894BA3A26AF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228B-9DA7-484C-946A-492984731C31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7155-E41F-4C58-BB1A-C6B3ADB0EB31}" type="slidenum">
              <a:rPr b="0" lang="ru-RU" sz="2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Заключение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улированы требования к программной системе (какую информацию она должна выводит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ны численные алгоритмы, получено обобщение алгоритма Грэх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на программная сист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1DE8-11B6-4A15-BD1A-92B0CDFC5D04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5872-A9BC-48CA-8D46-A6CFB6CEF47B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Публикации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4729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ренкин Г.В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етоды вычислительной реализации рангового метода кластериз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// Информатика и системы управления. 2012. №1(31). С. 71–7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ренкин Г.В., Черныш Е.В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ClRan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// Свидетельство Роспатента о государственной регистрации программы для ЭВМ. — Рег. № 2012612452 от 06.03.20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Picture 7" descr="Свидетельство"/>
          <p:cNvPicPr/>
          <p:nvPr/>
        </p:nvPicPr>
        <p:blipFill>
          <a:blip r:embed="rId1"/>
          <a:stretch/>
        </p:blipFill>
        <p:spPr>
          <a:xfrm>
            <a:off x="5940360" y="1989000"/>
            <a:ext cx="2990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7956-87E4-4899-B68F-3E4D88DB1FE8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4CF9-E047-42FA-B383-67F6317F7E37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Ранговый метод кластеризации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аждом из кластеров точки близки к прям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переходе от кластера к кластеру прямая меня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pic1"/>
          <p:cNvPicPr/>
          <p:nvPr/>
        </p:nvPicPr>
        <p:blipFill>
          <a:blip r:embed="rId1"/>
          <a:stretch/>
        </p:blipFill>
        <p:spPr>
          <a:xfrm>
            <a:off x="1779480" y="3284640"/>
            <a:ext cx="6193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CB25-82EB-4ED9-A615-B89D78C7FB61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06B5-26D1-4FAA-8A95-0229F561D27D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Задача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ализация исходной нечёткой постановки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ужно ответить на вопрос: какую информацию об исходных данных нужно получи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EF1B-4B38-440A-8A95-689F86ACFF8D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3E7B-3273-4AA1-983F-17A607CF0017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Математическая модель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6660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n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ln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ера отклонения точки от прям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n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ln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|ln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– (–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n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|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5256360" y="2752560"/>
            <a:ext cx="38163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D305-5DAA-4C3B-ABFB-E91BABCB8590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Математическая модель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оговое зна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l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...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кластер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раведлив модифицированный В. П. Масловым закон Ципфа с параметрами </a:t>
            </a:r>
            <a:r>
              <a:rPr b="0" i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093760" y="5272200"/>
            <a:ext cx="5119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7161-7434-4DDB-8020-0BA5EEBDE1A5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1B4D-2836-4F0F-A5D7-6C6E8428166B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3DEF-309F-4DBA-9380-CA33BF4E8C12}" type="slidenum">
              <a:rPr b="0" lang="ru-RU" sz="2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Математическая модель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3141720"/>
            <a:ext cx="364968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На кластере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праведлив модифицированный В. П. Масловым закон Ципфа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если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0)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4716360" y="3068640"/>
            <a:ext cx="4032360" cy="3495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1359000" y="1946160"/>
            <a:ext cx="674532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EEF7-7090-4063-82CB-8C600B3DBB38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A381-EDA0-4A8E-821A-F51DA682DE4D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C6CB-31F3-4EB4-B803-FBD4F765D065}" type="slidenum">
              <a:rPr b="0" lang="ru-RU" sz="2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Математическая модель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3141720"/>
            <a:ext cx="36496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На кластере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Arial Unicode MS"/>
              </a:rPr>
              <a:t>справедлив модифицированный В. П. Масловым закон Ципфа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 Unicode MS"/>
              </a:rPr>
              <a:t>,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Arial Unicode MS"/>
              </a:rPr>
              <a:t>если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 Unicode MS"/>
              </a:rPr>
              <a:t> 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 п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сти чис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1203480" y="2003400"/>
            <a:ext cx="7507080" cy="889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4643280" y="3068640"/>
            <a:ext cx="399600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22:06:30Z</dcterms:created>
  <dc:creator>Гренкин</dc:creator>
  <dc:description/>
  <dc:language>en-US</dc:language>
  <cp:lastModifiedBy>User</cp:lastModifiedBy>
  <dcterms:modified xsi:type="dcterms:W3CDTF">2012-06-09T01:50:43Z</dcterms:modified>
  <cp:revision>111</cp:revision>
  <dc:subject/>
  <dc:title>Название дипломной работы</dc:title>
</cp:coreProperties>
</file>